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FE3-A3A1-48C2-A149-84062DDD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A72-0482-4C9F-8511-742E350C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FD0-CC39-4F89-B609-CED3E0EB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671-E8C6-46F9-9523-D35C2E40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396-4002-4100-AB97-A7B3C0F2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805-DF4E-4DC0-A994-A812C0C8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E57-EF34-40C9-9D2D-59819B31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8A1-77C8-4647-9BB7-9844D929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EF4-E3EA-4814-96F4-46F7443F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F97-40AD-4B9B-8C33-6C219E3D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EB1-F984-467B-89C5-0F0EA838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698-D4C8-476A-9BAF-196DC4E8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FF24-70ED-4F02-B8C8-A51E953E6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2361960"/>
            <a:ext cx="5638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8.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dering Faces for Visual Re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Introduction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ight is reflected from an object, some of the reflected light reaches our eyes, and we see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lection: some of the light slightly penetrates the surface and is re-radiated uniformly in all directions. The light takes on some fraction of the color of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lection: more mirror-like. Light is reflected directly from the object’s outer surface, giving rise to highlights of approximately the same color as the source. The surface looks shi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Introduction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implest model, specular reflected light has the same color as the incident light. This tends to make the material look like plas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more complex model, the color of the specular light varies over the highlight, providing a better approximation to the shininess of metal surf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Introduction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urfaces produce some combination of diffuse and specular reflection, depending on surface characteristics such as roughness and type of mater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light reflected from the surface in a certain direction is the sum of the diffuse component and the specular compon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surface point of interest, we compute the size of each component that reaches the e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ed Ligh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Reflected Light: 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s not completely physically correct, but it provides fast and relatively good results on the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 of a light is related to its brightness.  We will use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ntensity, where s is R or G or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Reflected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reflected light at point P, we need 3 vectors: norm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urface at P and vecto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P to the source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P to the eye. We use world coordin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4114800"/>
            <a:ext cx="38102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Reflected Ligh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ace of a mesh object has an inside and an out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the eye sees only the outside (front, in Open-GL), and we calculate only light reflected from the outsid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9625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Reflected Ligh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eye can see inside, we must also compute reflections from the inside (back, in OpenG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, the eye can see the face and lighting must be calcula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Modeli(GL_LIGHT_MODEL_TWO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DES, GL_TRU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s lighting for both front and back faces - in case you have open boxes, for exam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e scattering is assumed to be independent of the direction from the point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 the location of the viewer’s ey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scattering is uniform in all directions, the orientation of the fac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ve to the eye is not significant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dependent of the angle betwe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nle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 0, mak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light that illuminates the fac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 on the orientation of the facet relative to the point source: the amount of light is proportional to the area of the facet that it sees: the are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te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 fac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sity depends on the projection of the face perpendicular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ambert's law). Left :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right: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8769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ar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rightness varies only slightly with angle, because the cosine changes slowly there. A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es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brightness falls rapidly to 0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co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intensity of the sourc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diffuse reflection coefficient and depends on the material the object is made o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Realism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(e.g., plastic, me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h Buffer Hidden Surface Rem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 implies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o take all cases into account, we use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x [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, 0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Spher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minated with Diffuse Ligh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es with reflection coefficients from 0 to 1 by 0.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rce intensity is 1.0. Background intensity is 0.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here is totally black when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, and the shadow in its bottom half (wher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 &lt; 0) is also bl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8320" y="1600200"/>
            <a:ext cx="4038480" cy="3581280"/>
            <a:chOff x="4648320" y="1600200"/>
            <a:chExt cx="4038480" cy="35812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4648320" y="1600200"/>
              <a:ext cx="4038480" cy="35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iffuse Light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ght intensity falling on fac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point source is known to decrease as the inverse square of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source. We could try to incorporate this is our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show that using this law yields pictures with exaggerated depth effec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we sometimes model light sources as if they lie “at infinity”. Using an inverse square law in such a case would quench the light entire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ignore distance effects in calculating light 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objects do not scatter light uniformly in all directions; a specular component is added to the shading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ular reflection causes highlights, which can add significantly to realism of a picture when objects are shin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model for specular light was developed by Phong. It is easy to a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lights generated by the Phong model give an object a plastic-like or glass-like appea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ong model is less successful with objects that are supposed to have a shiny metallic surface, although you can roughly approximate them with OpenGL by careful choices of certain color parame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light reflects at equal angles from the (smooth and/or shiny) surface, along dire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lecte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86868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h. 4, we found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mirror reflection dire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rfaces that are not mirrors, the amount of reflected light decreases as the angle φ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vector from reflection point to eye) increas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simplified model, we say the intensity decreases as 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φ, where f is chosen experimentally between 1 and 2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 of f : large f values give concentrated highlights; smaller ones give larger dimmer highl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72392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φ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pecular reflection coefficient, which depends on the materia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, there is no reflected specular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x[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0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eding up Calculations for Specular 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alfway v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ngle β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ximately measures the falloff of intensity. To take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errors, we u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 value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x[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)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81480" y="3276720"/>
            <a:ext cx="35816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how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sh objects, manipulate a jib camera, view objects, and make pic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want to make these objects look visually interesting, realistic, or bo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develop method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d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icture of the objects of interes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each pixel of a picture should l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Specular Component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bottom to top,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75, 0.5, 0.25.  From left to right, f = 3, 6, 9, 25, 200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54104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desire for a simple reflection model leaves us with far from perfect renderings of a sc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hadows appear to be unrealistically deep and har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ften these shadows, we can add a third light component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bient 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 Ligh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enes we observe around us always seem to be bathed in some soft non-directional l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ght arrives by multiple reflections from various objects in the surroundings and from light sources that populate the environment, such as light coming through a window, fluorescent lamps, and the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ssume a uniform background glow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bient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in the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mbient light source is not situated at any particular place, and it spreads in all directions uniform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Ambient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rce is assigned an intensity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ace in the model is assigned a value for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bient reflection co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ften this is the same as the diffuse reflection coefficient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nd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imply added to whatever diffuse and specular light is reaching the eye from each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at 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ually arrived at experimentally, by trying various values and seeing what looks b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Ambient Light to Diffuse Ref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use and ambient sources have intensity 1.0, and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4.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, 0.1, 0.3, 0.5, 0.7 (left to right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st ambient light softens shadows; too much ambient light washes out shado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6781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Light Contributions and Adding 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mbert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phon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bert = max[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, 0] and Phong = max[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, 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dd color, we use 3 separate total intensities like that above, one each for Red, Green, and Blue, which combine to give any desired color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ay the light sources have three types of color: ambient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diffuse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d specular =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p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Light Contributions and Adding Col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the diffuse light and the specular light have the same 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ame for R, G, and B, so specular light is the color of the light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’s color (in white light) is specified by 9 coefficients (ambient and diffuse are color of objec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 reflection coefficients: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e reflection coefficients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ular reflection coefficients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lor of a sphere is 30% red, 45% green, and 25% blue, it makes sense to set its ambient and diffuse reflection coefficients to (0.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4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2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ectively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ome scaling value that determines the overall fraction of incident light that is reflected from the 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it is bathed in white light having equal amounts of red, green, and blu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 individual diffuse components have intensit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45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25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 as expected we see a color that is 30% red, 45% green, and 25%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sphere has ambient and diffuse reflection coefficients (0.8, 0.2, 0.1), so it appears mostly red when bathed in white l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illuminate it with a greenish light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0.15, 0.7, 0.1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lected light is then given by (0.12, 0.14, 0.015), which is a fairly even mix of red and green, and would appear yellow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2  = 0.8 x 0.15, 0.14 = 0.2 x 0.7, 0.015 = 0.1 x 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specular light is mirror-like, the color of the specular component is often the same as that of the light sour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the specular highlight seen on a glossy red apple when illuminated by a yellow light is yellow rather than r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create specular highlights for a plastic-like surface, set the specular reflection coefficient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o that the reflection coefficients are ‘gray’ in nature and do not alter the color of the incident ligh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esigner might choose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5 for a slightly shiny plastic surface, or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9 for a highly shiny surf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 Objec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of rendering is based on differ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ding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describe how light from light sources interacts with objects in a sc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ractical to simulate all of the physical principles of light scattering and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of approximate models have been invented that do a good job and produce various levels of re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ing Light Contributions and Adding Color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f values for various materials for ambient, diffuse, and specular light is given in Fig. 8.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heres of different materials (mostly metallic, but one jade at bottom center) are shown at right (Fig. 8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648320" y="2362320"/>
            <a:ext cx="403848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and the Graphics Pip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ing is applied to a vertex at the point in the pipeline where the projection matrix is applied.  We specify a normal and a position for each vert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8534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and the Graphics Pipelin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Normal3f (norm[i].x, norm[i].y, norm[i].z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ifies a normal for each vertex that follow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view matrix transforms both vertices and normal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the latter by   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ranspose of the inverse matrix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itions of lights are also trans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and the Graphics Pipelin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a color is applied to each vertex, the perspective transformation is applied, and clipping is do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ping may create new vertices which need to have colors attached, usually by linear interpolation of initial vertex col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ew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40% of the way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color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blend of 60% of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40% of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or at point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4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4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.4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and the Graphics Pipeline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tices are finally passed through the viewport transformation where they are mapped into screen coordinates (along with pseudodepth, which now varies between 0 and 1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drilateral is then rendered (with hidden surface remova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Light Sources in Open-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sources are given a number in [0, 7]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_LIGHT_0, GL_LIGHT_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ight has a position specified in homogeneous coordinates using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named, for example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teP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ght is created us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 (GL_LIGHT_0, GL_POSITION, litePo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sition is a vector (4th component = 0), the source is infinitely remote (like the su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int and Vector Light Lo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shows a local source at (0, 3, 3, 1) and a remote source “located” along vector (3, 3, 0,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tely remote light sources are often calle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 There are computational advantages to using directional light sources, since dire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calculations of diffuse and specular reflection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vertices in the sc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irectional light sources are not always the correct choice: some visual effects are properly achieved only when a light source is close to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52880" y="4267080"/>
            <a:ext cx="36576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Light Sources in OpenG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ght color is specified by a 4-component array [R, G, B, A]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med (e.g.)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b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A value can be set to 1.0 for n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ght color is specified by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Lightfv (GL_LIGHT_0, GL_AMBIENT, amb0)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ilar statements specify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_DIFF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_SPEC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Light Sources in OpenGL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s do not work unless you turn them 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your main program, add the statemen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Enable (GL_LIGHTING); glEnable (GL_LIGHT_0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using other lights, you will need to enable them al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urn off a light,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glDisable (GL_LIGHT_0)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urn them all off,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glDisable (GL_LIGHTING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n Entir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 amb0[ ] = {0.2, 0.4, 0.6, 1.0}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// define some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 diff0[ ] = {0.8, 0.9, 0.5, 1.0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 spec0[ ] = { 1.0, 0.8, 1.0, 1.0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(GL_LIGHT0, GL_AMBIENT, amb0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// attach them to LIGHT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(GL_LIGHT0, GL_DIFFUSE, diff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(GL_LIGHT0, GL_SPECULAR, spec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ring: deciding how a pixel should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mpare wireframe (left) to wire-frame with hidden surface removal (r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505320" cy="269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429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Light Sources in OpenGL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mbient light is present even if no lights are created. Its default color is {0.2, 0.2, 0.2, 1.0}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his value, create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of value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wambi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use the statemen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Modelfv (GL_LIGHT_MODEL_AMBIENT, newambien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light values are {0, 0, 0, 1} for ambient for all lights, {1, 1, 1, 1} for diffuse and specular f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GHT_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{0, 0, 0, 1} for all other l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Spotlights in Open-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otlight emits light only in a cone of directions; there is no light outside the cone. Inside the cone, I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s β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cos 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he angle betw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 line from the source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114800" y="4010040"/>
            <a:ext cx="41911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d Using Spotlights in OpenG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the spotlight, create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flo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Default value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0, 0, 0, 1}, α = 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ε = 0: a point sour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dd the stat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 (GL_LIGHT_0, GL_SPOT_CUTOFF, 45.0); (45.0 is α in degre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 (GL_LIGHT_0, GL_SPOT_EXPONENT, 4.0); (4.0 is 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Lightfv (GL_LIGHT_0, GL_SPOT_DIRECTION, 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tenuation of Light with D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also allows you to specify how rapidly light diminishes with distance from a sou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attenuates the strength of a positional light source by the following attenuation facto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efficients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stance between the light’s position and the vertex in question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3200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tenuation of Light with Distanc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arameters are controlled by function ca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Lightf(GL_LIGHT0, GL_CONSTANT_ATTENUATION, 2.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imilarly for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_LINEAR_ATTEN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_QUADRATIC_ATTEN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ault valu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 (no attenuatio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he OpenGL Light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olor of global ambient l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fy its color us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Lfloat amb[ ] = {0.2, 0.3, 0.1, 1.0}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lLightModelfv(GL_LIGHT_MODEL_AMBIENT, amb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s the viewpoint local or remote?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nGL computes specular reflections using the “halfway vector”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. The true direction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normally different at each vertex in a mesh. OpenGL us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(0, 0, 1), along the positive z-axis, to increase rendering speed. To use the true valu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each vertex, execu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glLightModeli(GL_LIGHT_MODEL_LOCAL_VIEWER, GL_TRUE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he OpenGL Light Mode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both sides of a polygon shaded properl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polygonal face in a model has two sides. When modeling, we tend to think of them as the “inside” and “outside” surfaces. The convention is to list the vertices of a face in counter-clockwise (CCW) order as seen from outside the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has no notion of inside and outside. It can only distinguish between “front faces” and “back faces”. A fac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nt 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s vertices are listed in counter-clockwise (CCW) order as seen by the e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he OpenGL Light Model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pace-enclosing object (a) all visible faces are front faces; OpenGL draws them properly with the correct shad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box has a face removed (b), OpenGL does not shade back faces properly. To force OpenGL to shade back faces,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LightModeli(GL_LIGHT_MODEL_TWO_SIDE, GL_TRUE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GL reverses the normal vectors of any back-face and performs shading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_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default) to turn off this facilit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724280" y="4343400"/>
            <a:ext cx="41148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ing Light Sources in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a light source independently of the cam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its position arra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the color and depth buff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the modelview matrix to use for everything except the light source and pus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light source and set its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th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the camera, and draw the obje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: Independent Motion of Li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oid displa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  GLfloat position[ ] = {2, 1, 3, 1}; //initial ligh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lear color and depth buff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MatrixMode(GL_MODELVIE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LoadIdenti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PushMatri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Rotated(...);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Translated(...);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move the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Lightfv(GL_LIGHT0, GL_POSITION, posit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PopMatri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uLookAt(...); // set the camera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&lt;.. draw the object ..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utSwapBuffers(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mpare mesh objects drawn using wire-frame, flat shading, smooth (Gouraud) sh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5715000" cy="3368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3600" y="3200400"/>
            <a:ext cx="2732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: Light Moves with Ca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float pos[ ] = {0,0,0,1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MatrixMode(GL_MODELVIEW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LoadIdenti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Lightfv(GL_LIGHT0, GL_POSITION, position); // light at (0,0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uLookAt(...); // move light and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/ draw th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dering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images with specular highlights, shadows, 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2842920" cy="3124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2793960" cy="3124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2869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ing Models: 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 to start with that light has no color, only brightness: R = G =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 we also have a point source of light (sun or lamp) and general ambient light, which doesn't come directly from a source, but through windows or scattered by the 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 light comes equally from all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-source light comes from a singl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ding Models: Introduc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light hits an object, some light is absorbed (and turns into heat), some is reflected, and some may penetrate the interior (e.g., of a clear glass objec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the light is absorbed, the object appears black and is called a black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the light is transmitted, the object is visible only through refraction (Ch. 12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7:19:33Z</dcterms:created>
  <dc:creator>Mathematical Sciences</dc:creator>
  <dc:description/>
  <dc:language>en-US</dc:language>
  <cp:lastModifiedBy>umessan</cp:lastModifiedBy>
  <dcterms:modified xsi:type="dcterms:W3CDTF">2006-07-30T22:42:45Z</dcterms:modified>
  <cp:revision>26</cp:revision>
  <dc:subject/>
  <dc:title>Computer Graphics Using   Open-GL  F. S. Hill, Jr</dc:title>
</cp:coreProperties>
</file>