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FA6-E08C-4A36-9BD6-BBA66FEC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B63-F290-404D-91D3-D85701EB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A6D-8794-4F53-96CA-B5BAB26B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467-6798-4CE1-98E2-BEF97FC6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85C-7C77-444B-8D61-4CF55195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F77-5EC7-48F8-8EED-A730E906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0EC-8FE9-4CC4-AA68-797512D3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775-4362-4839-A5A1-2AA8D46D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A4F-E9DB-49D3-ACF3-DDB47C8A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3D5-593E-4AB6-A3A4-4855F992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6CD-B4B2-4A09-8563-8D92E642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ADD-0183-4110-9BE3-97D7C596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1E92-787A-445C-9A08-01804D332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uter Graphics using OpenGL, 3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. S. Hill, Jr. and S.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560" y="2361960"/>
            <a:ext cx="5638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7.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-dimensional Vie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M. 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Greensb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 2007, Prentice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17524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 Projection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495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arallel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Projections: all points are projected along lines parallel to a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47242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raphic and Oblique Parallel Proj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qu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parallel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e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graphic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arallel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igh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82296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hographic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ding lines are foreshortened; the projection preserves the exact shape of one face of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579132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GL Orthographic Pro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GL uses the projection matrix to describe the view volume of the cam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ally, the projection matrix specifies how to transform vertices to squash them into the canonical view volume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V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e actual view volume extends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hort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hort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hort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GL Orthographic Projec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ransform this parallelepiped into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V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must translate and scale so tha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V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ends from -1 to 1 in each dimen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rix at right maps the view volume into the CVV. This is the one formed by a call to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Ortho(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648320" y="1676520"/>
                <a:ext cx="3962160" cy="26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f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GL Orthographic Projection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multiply it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pressed in homogeneous coordinates), you get the actual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nGL submits for clipping and mapping to the viewpo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does not se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onent to 0 as in our formulation above. It performs a transformation, not a proj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ltimately does the actual projection by separating of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onent at the very end, using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mponents in screen coordinates for drawing, a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onent for depth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raphic Projection: Axonomet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raphic Projection: Isomet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3 principal axes foreshortened equ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09624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raphic Projection: Dimet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rincipal axes foreshortened equ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8305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ing Planar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raphic Projection: Trimet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3 principal axes is foreshortened unequ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3333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que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is sheared to make additional sides visible. Preserves exact shape of one face. (Not support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GL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5720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que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rojections depending on direction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761976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que Projec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alier: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inet: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: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,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981080" y="3429000"/>
                <a:ext cx="4496040" cy="30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erspective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Planes and Principal Ax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1722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point Projection: exactly one axis has a vanishing point.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is is perpendicular to a principal plane, and the camera is le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4038480"/>
            <a:ext cx="64008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oint Projection: exactly 2 axes have a vanishing point.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is is perpendicular to a principal axis, usually the y-axis (up)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in the x-z pla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used for drawings of buildings.  The camera is level and is looking at an edg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≤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57200" y="1600200"/>
            <a:ext cx="8229600" cy="3048120"/>
            <a:chOff x="457200" y="1600200"/>
            <a:chExt cx="8229600" cy="304812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 txBox="1"/>
            <p:nvPr/>
          </p:nvSpPr>
          <p:spPr>
            <a:xfrm>
              <a:off x="457200" y="1600200"/>
              <a:ext cx="8229600" cy="304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oint projection of a plane gr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70572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-point Projection: all 3 axes have a vanishing point.  None of the component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  The camera is looking up or down at the corner of an ob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would be standing looking at the corner of a rectangular skyscr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19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21:10:55Z</dcterms:created>
  <dc:creator>Mathematical Sciences</dc:creator>
  <dc:description/>
  <dc:language>en-US</dc:language>
  <cp:lastModifiedBy>umessan</cp:lastModifiedBy>
  <dcterms:modified xsi:type="dcterms:W3CDTF">2006-07-30T22:24:34Z</dcterms:modified>
  <cp:revision>41</cp:revision>
  <dc:subject/>
  <dc:title>Computer Graphics Using   Open-GL  F. S. Hill, Jr.</dc:title>
</cp:coreProperties>
</file>