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6.png" ContentType="image/png"/>
  <Override PartName="/ppt/media/image29.png" ContentType="image/png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0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5B70-7596-42C0-9417-AD472B817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al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t product of a and a-perp is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: the two components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v-per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with form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inear combination of two points, say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ifferent from 1 arises if we translate the origin of the coordinate system. Suppose the origin is translated by vect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o tha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ltered t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ranslated t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I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legitimate point, it too must be translated to the new poin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ut instead we have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P + gR + (f + g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les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DA3-8E9F-4B07-B250-45412C62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A0C-4CF9-434C-BF43-6A16A5D5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450-8E59-401E-9EA7-6AF3E3E4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019-A92A-40C4-A589-FF626C01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B8A-660F-4A1B-AFB9-9F1838BC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EF8-C4C8-482D-96D5-1EBCA9B1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28A-F0B8-4463-8B16-FC40526C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20F-765F-4BD2-A724-07F0C145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B68-1EBC-46AC-8716-A90BAF99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5B1-1CE8-4125-95B9-8D2FCC5E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EB7-0270-467A-8CDB-97376740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97F-5B95-4BC8-A63A-57EFDF48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38BB-270D-488D-9902-C7E089793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uter Graphics using OpenGL,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. S. Hill, Jr. and S.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71440" y="2361960"/>
            <a:ext cx="5715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4.1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ctor Tools for Graph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M. 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Greensb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 2007, Prentice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17524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ce between 2 points is a vecto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Q –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a point and a vector is a point: P 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represent an n-dimensional vector by an n-tuple of its components, e.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 (We will usually use 2- or 3-dimensional vectors: e.g.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3, -2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33, 142.7, 89.1) is a row v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33, 142.7, 89.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lumn v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same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114800" y="3200400"/>
                <a:ext cx="17524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Opera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s have 2 fundamental operations: 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2 vectors and multiplication by a sc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vectors, so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so is 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 s is a sc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114800" y="1558800"/>
            <a:ext cx="5029200" cy="272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4651200" y="3938760"/>
          <a:ext cx="4021200" cy="21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3938760"/>
                    <a:ext cx="4021200" cy="21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572000" y="4038480"/>
            <a:ext cx="2290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Operation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quivalent to add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89154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Combinations of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±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z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(s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inear combination of the m vecto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…,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… +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3, 4,-1) + 6(-1, 0, 2) forms the vector (0, 8, 1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Combinations of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linear combination becomes an affine combination if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…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affine combinat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affine combinat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ffine combination becomes a convex combination if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≥ 0 for 1 ≤ i ≤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.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nvex combinat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1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t of All Convex Combinations of 2 or 3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 – 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a varies from 0 to 1, gives the set of all convex combination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n example is shown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8229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ctor Magnitude and Unit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gnitude (length, size)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ritten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magnitud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4, -2) i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a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1, -3, 2) is      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vector has magnitude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vector pointing in the same direction as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             (if |a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     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71800" y="1981080"/>
          <a:ext cx="411480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4114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080" y="25596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238880" y="2819520"/>
                <a:ext cx="6858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105520" y="3200400"/>
                <a:ext cx="685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666880" y="4343400"/>
                <a:ext cx="1067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29000" y="5638680"/>
                <a:ext cx="365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ctor Magnitude and Unit Vector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imes we refer to a unit vector 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vector can be written as its magnitude times its direction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|a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410080" y="3200400"/>
                <a:ext cx="381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Dot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t product of n-vecto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… +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ot product is commutativ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ot product is distributive: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∙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∙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ot product is associative over multiplication by a scalar: (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s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∙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ot product of a vector with itself is its magnitude squared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mputer graphics, we work with objects defined in a three dimensional world (with 2D objects and worlds being just special cas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bjects to be drawn, and the cameras used to draw them, have shape, position, and orient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ust write computer programs that somehow describe these objects, and describe how light bounces around illuminating them, so that the final pixel values on the display can be compu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: Angle Between 2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co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si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co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si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co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o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si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co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=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co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the smaller angle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494160" cy="3916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5715000"/>
          <a:ext cx="2514600" cy="66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715000"/>
                    <a:ext cx="25146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le Between 2 Vector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sine is positive if |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&lt;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zero if |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 =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negative 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gt;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cto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re perpendicular (orthogonal, normal) i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7238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Unit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unit vectors in 3D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,0,0)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0, 1, 0)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0, 0, 1)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points in the positive z dir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,0)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0, 1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vectors are orthog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85345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 2D "Perp" 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vecto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then the vector perpendicular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unterclockwi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nse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┴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= (-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, and in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lockwi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ense it is 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 3D, any vector in the plane perpendicular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is a "perp" vect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3152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┴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s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)┴ =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-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a 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= 0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| = 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onal Projections and Distance from a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iven 2 points A and C and a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following questions ar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far is C from the line L that passes through A in direc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drop a perpendicular onto L from C, where does it hit 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decompose a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 – A into a part along L and a part perpendicular to 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on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2296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ing th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ay wri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.  If we take the dot product of each side wi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we obt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∙v = K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why?), or K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wise, taking the dot product wit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gives M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v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 (Why not 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swers to the original question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b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of Projection: Ref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lection occurs when light hits a shiny surface (below) or when a billiard ball hits the wall edge of a tab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grayscl/>
            <a:lum bright="20000"/>
          </a:blip>
          <a:stretch/>
        </p:blipFill>
        <p:spPr>
          <a:xfrm>
            <a:off x="2874960" y="3581280"/>
            <a:ext cx="33926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light reflects from a mirror, the angle of reflection must equal the angle of incidence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s and projections allow us to compute the new dire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 either two-dimensions or three dim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80010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fundamental sets of tools that come to our aid in graphic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ctor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h. 4)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form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h. 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velop methods to describe various geometric objects, and we learn how to convert geometric ideas to nu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vides a collection of crucial algorithms that we can use in graphics progr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llustration show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[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/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8229600" cy="2697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447920" y="2514600"/>
                <a:ext cx="17524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400800" y="2057400"/>
                <a:ext cx="1143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ctor Cross Product (3D Vectors On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eterminant below also gives the resu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342900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the Cross-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; (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s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for exampl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0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0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0, 0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perpendicular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 The direction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given by a right/left hand rule in a right/left-handed coordinat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| si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the smaller angle betwe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lso the area of the parallelogram form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0 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oint in the same or opposite directions, or if one or both has length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metric Interpretation of the Cross 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: Finding the Normal to a Pl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ny 3 non-collinear points A, B, and C in a plane, we can find a normal to the pla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B – A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 – A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normal on the other side of the plane is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7400" y="3352680"/>
            <a:ext cx="4114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xity of Poly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ing aroun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v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ygon from one edge to the next, either a left turn or a right turn is taken, and they al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the same kind of turn (all left or all righ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dge vector points along the edge of the polygon in the direction of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006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xity of Polyg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cross product of each edge vector with the next  forward edge v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ll the cross products point into (or all point out of) the plane, the polygon is convex; otherwise it is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2925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tions of Key Geometric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and planes are essential to graphics, and we must learn how to represent them – i.e., how to find an equation or function that distinguishes points on the line or plane from points off the line or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out that this representation is easiest if we represent vectors and points using 4 coordinates rather than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rdinate Systems and Fr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or point has coordinates in an underlying coordinate syste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raphics, we may have multiple coordinate systems, with origins located anywhere in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fine a coordinate frame as a single point (the origin,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ith 3 mutually perpendic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0"/>
          <a:ext cx="123840" cy="1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84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080" y="1702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0"/>
          <a:ext cx="123840" cy="17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84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080" y="1702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Problems for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center of the circle through the 3 points?  What image shape appears on the viewplane, and where?  Where does the reflection of the cube appear on the shiny cone, and what is the exact shape of the ref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822960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 Fram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presented by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uch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P – </a:t>
            </a:r>
            <a:r>
              <a:rPr b="0" i="1" lang="en-US" sz="28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8800" y="3062160"/>
            <a:ext cx="66294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Coordin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represent both points and vectors by the same set of underlying objects,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has no position, so we represent it a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int has an origin (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so we represent it by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to and from Homogeneous Coordin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 if the object is a vector, add a 0 as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rdinate; if it is a point, add a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simply remove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rdin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uses 4D homogeneous coordinates for all its vert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send it a 3-tuple in the form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it converts it immediately t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send it a 2D poi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it first appends a 0 for the z-component and then a 1, to form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0, 1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mputations are done within OpenGL in 4D homogeneous coordin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combinations of vectors and poi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of 2 points is a vector: the fourth component is 1 – 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of a point and a vector is a point: the fourth component is 1 + 0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of 2 vectors is a vector: 0 + 0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ctor multiplied by a scalar is still a vector: a x 0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combinations of vectors are v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a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of 2 points is a point only if the points are part of an affine combination, so that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1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 1 = 1.  The sum is a vector only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1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 1 = 0. We require this rule to remedy the problem shown at righ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191120" y="1752480"/>
            <a:ext cx="4647960" cy="3160800"/>
            <a:chOff x="4191120" y="1752480"/>
            <a:chExt cx="4647960" cy="316080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4191120" y="1752480"/>
              <a:ext cx="4647960" cy="31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 txBox="1"/>
            <p:nvPr/>
          </p:nvSpPr>
          <p:spPr>
            <a:xfrm>
              <a:off x="4191120" y="1752480"/>
              <a:ext cx="4647960" cy="316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ation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fo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ar combination of two points, sa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ifferent from 1, a problem arises if we translate the origin of the coordinate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origin is translated by vect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lter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anslat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oint, it must be translat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hav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 + gR + (f + 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419720" y="3422520"/>
            <a:ext cx="4343400" cy="2954520"/>
            <a:chOff x="4419720" y="3422520"/>
            <a:chExt cx="4343400" cy="295452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4419720" y="3422520"/>
              <a:ext cx="4343400" cy="29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 txBox="1"/>
            <p:nvPr/>
          </p:nvSpPr>
          <p:spPr>
            <a:xfrm>
              <a:off x="4419720" y="3422520"/>
              <a:ext cx="4343400" cy="295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+ 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we add a point A and a vector that has been scaled by a factor t: the result is a point, P = A + 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 – A, the difference of 2 points: P = tB + (1-t)A, an affine combination of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Interpolation of 2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(1-t)A + tB is a linear interpolation (lerp) of 2 points. This is very useful in graphics in many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) provides an x value that is fraction t of the way between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(Likewis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 lerp (float a, float b, float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    return a + (b – a) * t;  // return float 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ning and l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often wants to compute the poin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that is fracti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the way along the straight line from poin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poin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the tween (for in-between) a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point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component of the resulting point is formed as the lerp() of the corresponding components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rocedure Tween (Point2 A, Point2 B, float t) implements tweening for points A and B, where we have used the new data type Point2 for a 2D poin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 Point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 float x; float y; 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ning and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ening takes 2 polylines and interpolates between them (using lerp) to make one turn into another (or vice vers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finding here the point P(t) that is a fraction t of the way along the straight line (not drawn) from point A to point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art, it is easiest if you use 2 polylines with the same number of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 provide easy ways of solving some tough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has length and direction, but not position (relative to a coordinate system).  It can be moved an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int has position but not length and direction (relative to a coordinate syste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alar has only size (a numb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nin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polylines A and B, each with n points numbered 0, 1, …, n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m the point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) = (1-t)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t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 t = 0.0, 0.1, …, 1.0 (or any other set of t in [0, 1]), and draw the polyline for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82296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for T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drawTween(Point2 A[ ], Point2 B[ ], int n, float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// draw the tween at time t between polylines A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i = 0; i &lt; n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Point2 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Tween (A[i], B[i], 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i ==0) moveTo(P.x, P.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lineTo(P.x, P.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ning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llow drawing tweens continuously, use the code below with double buff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t = 0.0, delT = 0.1; ; t += delT;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clear the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Tween (A, B, n, 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tSwapBuffer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(t&lt;=0.0) || (t&gt;=1.0)) delT = -de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" y="1636560"/>
            <a:ext cx="647712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Tw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ilms, artists draw only the key frames of an animation sequence (usually the first and las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ening is used to generate the in-between fr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ew of Ch. 10: We want a smooth curve that passes through or near 3 points.  We expand ((1-t) + 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write P(t) = (1-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+ 2t(1-t)B +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Tweenin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called the Bezier curve for points A, B, and 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extended to 4 points by expanding ((1-t) + t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using each term as the coefficient of a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647676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Points and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oints and vectors are defined relative to some coordinate system. Shown below are a 2D coordinate system and a right- and a left-handed 3-D coordina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3451320"/>
            <a:ext cx="80769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ft and Right Handed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3D system, using your right hand, curl your fingers around going from the x-axis to the y-axis. Your thumb is at right angles to your fi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thumb points along the direction of the z-axis, the system is right ha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thumb points opposite to the direction of the z-axis, the system is left ha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: Review of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s are drawn as arrows of a certain length pointing in a certain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ctor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one point to another. Shown below are displacements of the stars in the Big Dipper over the next 50,00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4064040"/>
            <a:ext cx="69343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ctors and Coordinat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ctor v between points P = (1, 3) and Q = (4, 1), with components of (3, -2), calculated by subtracting the coordinates individually (Q – 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"go" from P to Q, we move down by 2 and right by 3.  Since v has no position, the two arrows labeled v are the same vector. The 3D case is also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3854520"/>
            <a:ext cx="65530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5:24:26Z</dcterms:created>
  <dc:creator>Mathematical Sciences</dc:creator>
  <dc:description/>
  <dc:language>en-US</dc:language>
  <cp:lastModifiedBy>umessan</cp:lastModifiedBy>
  <dcterms:modified xsi:type="dcterms:W3CDTF">2006-07-28T20:49:39Z</dcterms:modified>
  <cp:revision>51</cp:revision>
  <dc:subject/>
  <dc:title>Computer Graphics Using   Open-GL  F. S. Hill, Jr. </dc:title>
</cp:coreProperties>
</file>