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4880" y="0"/>
            <a:ext cx="37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B - </a:t>
            </a:r>
            <a:fld id="{D80A4890-9376-4800-AE34-C2E92836A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junit.sourceforge.net/doc/cookbook/cookbook.htm" TargetMode="External"/><Relationship Id="rId2" Type="http://schemas.openxmlformats.org/officeDocument/2006/relationships/hyperlink" Target="http://junit.sourceforge.net/doc/cookbook/cookbook.htm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unit.sourceforge.net/doc/cookbook/cookbook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or more information on creating tests with J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True to check that the result of the boolean expression is true.  If it fails the passed string will be prin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Equals to check if the two passed int values are equal.  If they are not it will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il(String) method will automatically fail and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sion testing is to make sure that things that used to work still work after a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reme Programming you write the test cases first before you write the code.  That way you will know when the code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ing on “Apply” save the information but doesn’t exit the window.  Clicking on “Ok” saves the information and closes th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path is where the Java compiler and run-time will look for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220B-3E7A-48CD-8AA0-A2C049B0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3F9-AC55-4DB1-85F8-6E367BA4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F0E-6037-4192-A546-097869A9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7DBD-E5FC-424F-A52C-B773B098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A4D-7B49-4DF6-9898-A39D7512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2A0-EC3F-4D9A-80D5-87302A1F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12A-5614-4DFF-A88B-B1BA75E1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B60-5445-4141-AB27-3D04E6BE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E09-BF5C-4434-A3D4-9EB5D79C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ADEE-AC12-4F1C-8413-7748F406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7D5-8081-4466-BF5A-B267FC12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6A8-4EA3-4C17-93BD-DA966029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FF8E-4E09-4187-B213-C96C3E413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java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iler output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errors are shown in the compiler output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rror will be highlighted and the line of code that caused the problem will b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click on an error to go to the line that contains th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fini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 the definitions pane to add code to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automatically indent for you when you hit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use 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highlight all code in a block when you click to the right of a closing parenth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dent selected lines using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mment out and uncomment lines in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ompil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Compile All to compile all files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Tools-&gt;Compile Al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mpile just the shown file by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-&gt;Compile Curren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70880" y="274320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comp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en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1520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execut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the file that you want to run the main method from is selected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ools-&gt;Run Document’s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will be shown in the interactions and consol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generate Javadoc docu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Javadoc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generate the Javadoc documentation for all files in the folder and all subfolders for all ope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 comm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038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bugg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ebugger-&gt;Debu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line of code to stop at “breakpo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and Toggle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several break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teractions pane to explore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4114800" y="4952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 Stepping and Resu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each piece of the current line being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es into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current line without seeing the execution and stop before the next line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rest of the current method and stop before the next line in the call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inue execution still the next breakpoint or the end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838188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4040" y="54864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p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reate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“Edit” then "New JUnit Test Cas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one or more te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True(St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Equals(String,int,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(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run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Tes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shown in the Test Output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ilures will b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t tests are very useful for init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gress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03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, lightweight, development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, compile, debug and execute Ja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generate Javadoc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 and run J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ge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tar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 Jav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dd items to the classpath for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pile and 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nerate Javadoc htm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nd run JUnit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ge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 development environment for Java aimed a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Ri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downloade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rjav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quires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commend using 1.5 (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Java first from java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Star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DrJava icon on you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while DrJava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ill display the splash screen while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see the ful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91360" y="1944720"/>
            <a:ext cx="75240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038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 Fea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multipl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coded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Jav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038480" cy="30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44840" y="2133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1160" y="44956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0080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6600" y="502920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696080" y="327672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648320" y="26668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lp Wind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Help in the menu and then again on Help to bring up the help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of contents is on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a topic to see the help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add to the classpath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up the preference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Edit and then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add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lect all jar files that you want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dd directories that have classes that you wish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are done click on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interac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end a statement with a semicolon ‘;’ it will be interpreted and the result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end a statement with a semicolon it will be interpreted but the result won’t be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ystem.out.println(expression)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ter multiple line statements use Shift +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console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lick on the console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see the console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just the items that you have printed to th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ystem.out.println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5337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7:13:22Z</dcterms:modified>
  <cp:revision>1717</cp:revision>
  <dc:subject/>
  <dc:title>Summer Institute for Computing Education</dc:title>
</cp:coreProperties>
</file>