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4880" y="0"/>
            <a:ext cx="3787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B - </a:t>
            </a:r>
            <a:fld id="{CAACEEE2-CB6A-48DD-9B0B-5ABEFEEC7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junit.sourceforge.net/doc/cookbook/cookbook.htm" TargetMode="External"/><Relationship Id="rId2" Type="http://schemas.openxmlformats.org/officeDocument/2006/relationships/hyperlink" Target="http://junit.sourceforge.net/doc/cookbook/cookbook.htm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unit.sourceforge.net/doc/cookbook/cookbook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for more information on creating tests with J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True to check that the result of the boolean expression is true.  If it fails the passed string will be print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Equals to check if the two passed int values are equal.  If they are not it will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il(String) method will automatically fail and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sion testing is to make sure that things that used to work still work after a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reme Programming you write the test cases first before you write the code.  That way you will know when the code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ing on “Apply” save the information but doesn’t exit the window.  Clicking on “Ok” saves the information and closes th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path is where the Java compiler and run-time will look for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B9F-7CBF-4951-9DEC-E4FA32A4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908-17AD-44C0-9C30-7A580108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B1CB-A9C3-4AB7-B325-A5723368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E2E-194A-4A57-851F-6FCC9236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703-1D67-49AA-940C-B62DACE7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3AE-6A4A-4967-A830-FC0D5248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A83-08A2-41F9-9E57-C74207C3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BA0-E297-440B-BBA0-E6607350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470-3E58-492C-ABF7-2DC98CE1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C92-CAF9-442E-90A4-37E82DB8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C42-4B45-4F9E-AE2B-862C33C4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3D0-5ADA-45C2-A248-524A0D8E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07A4-C978-46C4-BC3C-C4EC62B84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java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iler output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errors are shown in the compiler output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rror will be highlighted and the line of code that caused the problem will b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click on an error to go to the line that contains th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fini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 the definitions pane to add code to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automatically indent for you when you hit 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use 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highlight all code in a block when you click to the right of a closing parenth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dent selected lines using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mment out and uncomment lines in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ompil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Compile All to compile all files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Tools-&gt;Compile Al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ompile just the shown file by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-&gt;Compile Curren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70880" y="274320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comp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en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15200" y="243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execut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the file that you want to run the main method from is selected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ools-&gt;Run Document’s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will be shown in the interactions and consol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generate Javadoc docu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Javadoc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generate the Javadoc documentation for all files in the folder and all subfolders for all ope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javado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 comm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0384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bugg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Debugger-&gt;Debu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line of code to stop at “breakpo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and Toggle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have several break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interactions pane to explore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4114800" y="4952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bug Stepping and Resu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e each piece of the current line being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es into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current line without seeing the execution and stop before the next line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rest of the current method and stop before the next line in the call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tinue execution still the next breakpoint or the end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838188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4040" y="54864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p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reate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“Edit” then "New JUnit Test Cas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one or more te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True(St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Equals(String,int,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(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run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Tes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shown in the Test Output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ilures will b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t tests are very useful for initi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gress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03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, lightweight, development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, compile, debug and execute Ja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generate Javadoc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 and run J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ge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tar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 Java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dd items to the classpath for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mpile and 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nerate Javadoc htm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nd run JUnit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o ge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 development environment for Java aimed a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Ri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downloade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rjav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quires J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commend using 1.5 (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Java first from java.s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Star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DrJava icon on your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while DrJava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ill display the splash screen while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see the ful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91360" y="1944720"/>
            <a:ext cx="75240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038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 Feat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multipl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coded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Jav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038480" cy="309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44840" y="2133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1160" y="44956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0080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6600" y="502920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696080" y="327672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648320" y="26668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lp Wind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Help in the menu and then again on Help to bring up the help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of contents is on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a topic to see the help on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add to the classpath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up the preference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Edit and then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add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elect all jar files that you want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dd directories that have classes that you wish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are done click on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interac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end a statement with a semicolon ‘;’ it will be interpreted and the result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end a statement with a semicolon it will be interpreted but the result won’t be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ystem.out.println(expression)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ter multiple line statements use Shift +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console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lick on the console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see the console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s just the items that you have printed to th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ystem.out.println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5337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7:13:22Z</dcterms:modified>
  <cp:revision>1717</cp:revision>
  <dc:subject/>
  <dc:title>Summer Institute for Computing Education</dc:title>
</cp:coreProperties>
</file>