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1.wmf" ContentType="image/x-wmf"/>
  <Override PartName="/ppt/media/image26.png" ContentType="image/png"/>
  <Override PartName="/ppt/media/image16.wmf" ContentType="image/x-wmf"/>
  <Override PartName="/ppt/media/image3.png" ContentType="image/png"/>
  <Override PartName="/ppt/media/image33.png" ContentType="image/png"/>
  <Override PartName="/ppt/media/image8.png" ContentType="image/png"/>
  <Override PartName="/ppt/media/image27.png" ContentType="image/png"/>
  <Override PartName="/ppt/media/image4.png" ContentType="image/png"/>
  <Override PartName="/ppt/media/image12.wmf" ContentType="image/x-wmf"/>
  <Override PartName="/ppt/media/image17.wmf" ContentType="image/x-wmf"/>
  <Override PartName="/ppt/media/image9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7.png" ContentType="image/png"/>
  <Override PartName="/ppt/media/image15.wmf" ContentType="image/x-wmf"/>
  <Override PartName="/ppt/media/image6.png" ContentType="image/png"/>
  <Override PartName="/ppt/media/image14.wmf" ContentType="image/x-wmf"/>
  <Override PartName="/ppt/media/image29.png" ContentType="image/png"/>
  <Override PartName="/ppt/media/image32.wmf" ContentType="image/x-wmf"/>
  <Override PartName="/ppt/media/image10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5405-098D-41A9-B6EF-E23EDDE36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628F-A01A-43D0-AF86-7914B09F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F306-4A25-45A5-BA3E-A92BF382B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3832-3CD5-410E-9D3A-8E0B6C56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BFBF6-DD31-4EC1-900B-848089777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F153F-40AD-4210-8198-6C617382D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0336-002C-40CE-9781-1B0C8804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A4B5-D85A-4E9D-8068-1C617872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D4E0D-6EF1-4955-82E6-459FE247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5BA07-3DA8-43A5-BB1C-BDC261A64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3936-5FA8-49CC-AD72-A0422D53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2113-5396-4784-BEBF-E5812516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ABE9-6836-4DB6-9AEA-8852310D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8559-63E0-44D3-843A-93ABD358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05A0-EEF2-4752-AAA9-9719747A7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BC96E-627F-4A0D-8608-FFB08D57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2B1F-B71A-4FBD-86B1-CCB1A8D36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6D5D-3062-4089-B6C2-549D6266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4DF3-B0FB-4C5F-8169-CFAC2635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CDD9-DB49-4916-93BC-9E1548E0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1AE6-4895-4925-A865-755123A2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845B-A68E-4EF4-97FE-48C59B57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7E95-8758-406B-9BE5-55B812C2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E037-6AA5-49D4-B4AC-5353E3D8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59C3-2E52-4522-B27B-9F9C1F6E42DF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6"/>
          <p:cNvSpPr/>
          <p:nvPr/>
        </p:nvSpPr>
        <p:spPr>
          <a:xfrm>
            <a:off x="685800" y="6400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6"/>
          <p:cNvSpPr/>
          <p:nvPr/>
        </p:nvSpPr>
        <p:spPr>
          <a:xfrm>
            <a:off x="685800" y="64008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JAVA: An Introduction to Problem Solving &amp; Programming, 7</a:t>
            </a:r>
            <a:r>
              <a:rPr b="0" lang="en-US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Ed. By Walter Savitch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SBN 0133862119 © 2015 Pearson Education, Inc., Upper Saddle River, NJ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2"/>
          <a:stretch/>
        </p:blipFill>
        <p:spPr>
          <a:xfrm>
            <a:off x="2195640" y="525600"/>
            <a:ext cx="4505040" cy="1790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"/>
          <p:cNvPicPr/>
          <p:nvPr/>
        </p:nvPicPr>
        <p:blipFill>
          <a:blip r:embed="rId3"/>
          <a:stretch/>
        </p:blipFill>
        <p:spPr>
          <a:xfrm>
            <a:off x="5653080" y="2313000"/>
            <a:ext cx="1609560" cy="399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4B28-7416-4CEE-9C24-0712954A76D6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CodeSamples2.htm#Listing 5.1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CodeSamples2.htm#Listing 5.2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CodeSamples2.htm#Listing 5.3" TargetMode="External"/><Relationship Id="rId2" Type="http://schemas.openxmlformats.org/officeDocument/2006/relationships/hyperlink" Target="file:///CodeSamples2.htm#Listing 5.4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1992240"/>
            <a:ext cx="6858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Defining Classes</a:t>
            </a:r>
            <a:br>
              <a:rPr sz="4500"/>
            </a:br>
            <a:r>
              <a:rPr b="0" lang="en-US" sz="4500" spc="-1" strike="noStrike">
                <a:solidFill>
                  <a:srgbClr val="000000"/>
                </a:solidFill>
                <a:latin typeface="Calibri Light"/>
              </a:rPr>
              <a:t>and Methods</a:t>
            </a:r>
            <a:endParaRPr b="0" lang="en-US" sz="4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43000" y="4471920"/>
            <a:ext cx="68580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apter 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Courier New"/>
                <a:ea typeface="Courier New"/>
              </a:rPr>
              <a:t>Dog</a:t>
            </a:r>
            <a:r>
              <a:rPr b="0" lang="en-US" sz="3300" spc="-1" strike="noStrike">
                <a:solidFill>
                  <a:srgbClr val="ff0000"/>
                </a:solidFill>
                <a:latin typeface="Calibri Light"/>
              </a:rPr>
              <a:t> 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Instance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6560" y="1573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5.1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Do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class ha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e pieces of data (instance variabl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wo behavi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ach instance of this type has its own copies of the data item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of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restrictions on how variables 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ter will replace with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priv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sing a Class and Its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sample program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isting 5.2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Dog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2"/>
          <a:stretch/>
        </p:blipFill>
        <p:spPr>
          <a:xfrm>
            <a:off x="1403280" y="3143160"/>
            <a:ext cx="5916600" cy="2232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6431040" y="368316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you use a method you "invoke" or "call" i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wo kinds of Java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turn a single 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form some other action – a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metho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is a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voked by the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 by the application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lling a method that returns a quantit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anywhere a value can be us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lling a void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ite the invocation followed by a semicol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ulting statement performs the action defined by the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metho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writeOutpu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from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5.1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definitions appear inside class defini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n be used only with objects of that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2903400" y="2457360"/>
            <a:ext cx="51818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ost method definitions we will see a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does not return a valu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pecified as a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eading includes paramet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dy enclosed in braces 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{  }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nk of method as defining an action to be tak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 That Return a Valu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387080"/>
            <a:ext cx="8686800" cy="483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method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getAgeInHumanYears( 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eading declares type of value to be return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ast statement executed i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retur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9" descr=""/>
          <p:cNvPicPr/>
          <p:nvPr/>
        </p:nvPicPr>
        <p:blipFill>
          <a:blip r:embed="rId1"/>
          <a:stretch/>
        </p:blipFill>
        <p:spPr>
          <a:xfrm>
            <a:off x="2289240" y="1905120"/>
            <a:ext cx="3895560" cy="2828880"/>
          </a:xfrm>
          <a:prstGeom prst="rect">
            <a:avLst/>
          </a:prstGeom>
          <a:ln w="0">
            <a:noFill/>
          </a:ln>
        </p:spPr>
      </p:pic>
      <p:sp>
        <p:nvSpPr>
          <p:cNvPr id="128" name="Line 13"/>
          <p:cNvSpPr/>
          <p:nvPr/>
        </p:nvSpPr>
        <p:spPr>
          <a:xfrm flipV="1">
            <a:off x="1906560" y="2170080"/>
            <a:ext cx="827280" cy="256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4"/>
          <p:cNvSpPr/>
          <p:nvPr/>
        </p:nvSpPr>
        <p:spPr>
          <a:xfrm flipH="1" flipV="1">
            <a:off x="3620880" y="4506480"/>
            <a:ext cx="817560" cy="76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econd Example – Species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designed to hold records of endangered speci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the class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5.3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peciesFirstTr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ree instance variables, three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 expand this class in the rest of the chap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</a:t>
            </a:r>
            <a:r>
              <a:rPr b="0" lang="en-US" sz="21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demo class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sting 5.4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SpeciesFirstTry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Keyword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thi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599840"/>
            <a:ext cx="8229600" cy="47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ferring to instance variables outside the class – must us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 of an object of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llowed by a do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ame of instance vari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ide the class,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name of variable alon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object (unnamed) is understood to be t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Keyword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thi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ide the class the unnamed object can be referred to with the name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th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this.name = keyboard.nextLine(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keywor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thi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nds for the receiving ob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e will seem some situations later that require the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th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concepts of class, class ob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reate class obj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a Java class, its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use of parameters in a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modifiers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public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priva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accessor, mutator class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information hiding, encapsul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rite method pre- and postcondition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Local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793520"/>
            <a:ext cx="8229600" cy="47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 declared inside a method are called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local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y be used only inside the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variables declared in method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re local to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ocal variables having the same name and declared in different methods are different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Local Variabl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file, listing 5.5A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BankAccou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file, listing 5.5B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LocalVariablesDemoPro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two different variables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newAmou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different values outpu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028880" y="5126040"/>
            <a:ext cx="6424560" cy="1012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41" name="Text Box 7"/>
          <p:cNvSpPr/>
          <p:nvPr/>
        </p:nvSpPr>
        <p:spPr>
          <a:xfrm>
            <a:off x="7149960" y="477360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Block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59984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call compound statem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closed in braces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{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you declare a variable within a compound stat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compound statement is called a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scope of the variable is from its declaration to the end of the blo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 declared outside the block usable both outside and inside the block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ameters of Primitive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call method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claration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 listing 5.3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it only works for 10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an make it more versatile by giving the method a parameter to specify how many yea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sample program, listing 5.6</a:t>
            </a:r>
            <a:br>
              <a:rPr sz="2100"/>
            </a:b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class SpeciesSecondTr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3776760" y="1397160"/>
            <a:ext cx="4938480" cy="1191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ameters of Primitive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425240"/>
            <a:ext cx="8686800" cy="47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the declaration</a:t>
            </a:r>
            <a:br>
              <a:rPr sz="2100"/>
            </a:b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public int predictPopulation(int year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form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arameter is </a:t>
            </a: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yea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alling the method</a:t>
            </a:r>
            <a:br>
              <a:rPr sz="2100"/>
            </a:b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int futurePopulation =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speciesOfTheMonth.predictPopulation(10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actu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parameter is the integer 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7</a:t>
            </a:r>
            <a:br>
              <a:rPr sz="2100"/>
            </a:b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class SpeciesSecondClassDemo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ameters of Primitive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rameter names are local to the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method invok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ach parameter initialized to value in corresponding actual parame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itive actual parameter cannot be altered by invocation of the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utomatic type conversion performed</a:t>
            </a:r>
            <a:br>
              <a:rPr sz="2100"/>
            </a:b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byte -&gt; short -&gt; int -&gt; </a:t>
            </a:r>
            <a:br>
              <a:rPr sz="2600"/>
            </a:b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      long -&gt; float -&gt; dou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Information Hiding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Encapsulation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01520" y="1600200"/>
            <a:ext cx="7684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formation Hid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e- and Postcondition Comm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public and private Modifier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 Calling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ncapsul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utomatic Documentation with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javadoc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ML Class Diagram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Information Hid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mer using a class method need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know details of implement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ly needs to know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method do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formation hiding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signing a method so it can be used without knowing detai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so referred to as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abstrac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design should separate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wha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from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how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93640" y="371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Pre- and Postcondition Comment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econdition com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es conditions that must be true before method is invok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209600" y="3876840"/>
            <a:ext cx="7188120" cy="1755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318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Pre- and Postcondition Comment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ostcondition com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lls what will be true after method execu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tretch/>
        </p:blipFill>
        <p:spPr>
          <a:xfrm>
            <a:off x="1131840" y="3562200"/>
            <a:ext cx="7427880" cy="16909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bjective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493120" cy="48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purpose of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javado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raw simple UML diagram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scribe references, variables, parameters of a class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e boolean-valued methods such a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equ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 applets use class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labels,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init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50640" y="410760"/>
            <a:ext cx="8793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public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and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private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Modifiers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ype specified as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y other class can directly access that object by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es generally specified as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tance variables usually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public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ead specify a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riv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8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SpeciesThirdTr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monstration of need for private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atement such a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box.width = 6;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 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s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Calibri"/>
              </a:rPr>
              <a:t>illegal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ince width is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 private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eps remaining elements of the class consistent in this example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other implementation of a Rectangl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0</a:t>
            </a:r>
            <a:br>
              <a:rPr sz="2100"/>
            </a:b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class Rectangle2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setDimension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the only way th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widt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heigh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ay be altered outside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ccessor and Mutator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instance variables are private must provide methods to access values stored ther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ly name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et</a:t>
            </a:r>
            <a:r>
              <a:rPr b="1" i="1" lang="en-US" sz="3000" spc="-1" strike="noStrike">
                <a:solidFill>
                  <a:srgbClr val="ed7d31"/>
                </a:solidFill>
                <a:latin typeface="Courier New"/>
              </a:rPr>
              <a:t>SomeVal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erred to as an accessor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ust also provide methods to change the values of the private instanc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ly name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et</a:t>
            </a:r>
            <a:r>
              <a:rPr b="1" i="1" lang="en-US" sz="3000" spc="-1" strike="noStrike">
                <a:solidFill>
                  <a:srgbClr val="ed7d31"/>
                </a:solidFill>
                <a:latin typeface="Courier New"/>
              </a:rPr>
              <a:t>SomeVal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ferred to as a mutator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ccessor and Mutator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an example class with accessor and mutator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1</a:t>
            </a:r>
            <a:br>
              <a:rPr sz="2100"/>
            </a:b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class SpeciesFourthTry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the mutator method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et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accessor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etNam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etPopulation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etGrowthR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ccessor and Mutator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ing a mutator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12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SpeciesFourthTry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4" descr=""/>
          <p:cNvPicPr/>
          <p:nvPr/>
        </p:nvPicPr>
        <p:blipFill>
          <a:blip r:embed="rId1"/>
          <a:srcRect l="0" t="0" r="0" b="50729"/>
          <a:stretch/>
        </p:blipFill>
        <p:spPr>
          <a:xfrm>
            <a:off x="885960" y="3354480"/>
            <a:ext cx="7683480" cy="29098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174" name="Picture 5" descr=""/>
          <p:cNvPicPr/>
          <p:nvPr/>
        </p:nvPicPr>
        <p:blipFill>
          <a:blip r:embed="rId2"/>
          <a:srcRect l="0" t="50085" r="0" b="0"/>
          <a:stretch/>
        </p:blipFill>
        <p:spPr>
          <a:xfrm>
            <a:off x="835200" y="3290760"/>
            <a:ext cx="7683480" cy="2948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75" name="Text Box 7"/>
          <p:cNvSpPr/>
          <p:nvPr/>
        </p:nvSpPr>
        <p:spPr>
          <a:xfrm>
            <a:off x="7394400" y="432288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Purchas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3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Purcha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use of private instanc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also how mutator methods check for invalid valu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demo program, listing 5.14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purchase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ed7d31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1116000" y="1343160"/>
            <a:ext cx="7245360" cy="5145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80" name="Text Box 7"/>
          <p:cNvSpPr/>
          <p:nvPr/>
        </p:nvSpPr>
        <p:spPr>
          <a:xfrm>
            <a:off x="7394400" y="432288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 Calling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method body may call any other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f the invoked method is within the sam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ed not use prefix of receiving objec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5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Orac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demo program, listing 5.16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OracleDem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Methods Calling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rcRect l="0" t="47188" r="0" b="0"/>
          <a:stretch/>
        </p:blipFill>
        <p:spPr>
          <a:xfrm>
            <a:off x="731880" y="1623960"/>
            <a:ext cx="7638840" cy="43671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185" name="Picture 6" descr=""/>
          <p:cNvPicPr/>
          <p:nvPr/>
        </p:nvPicPr>
        <p:blipFill>
          <a:blip r:embed="rId2"/>
          <a:srcRect l="0" t="0" r="0" b="52486"/>
          <a:stretch/>
        </p:blipFill>
        <p:spPr>
          <a:xfrm>
            <a:off x="738360" y="1871640"/>
            <a:ext cx="7638840" cy="3929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186" name="Text Box 7"/>
          <p:cNvSpPr/>
          <p:nvPr/>
        </p:nvSpPr>
        <p:spPr>
          <a:xfrm>
            <a:off x="7240680" y="3692520"/>
            <a:ext cx="152388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39840" y="317160"/>
            <a:ext cx="888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Class and Method Definitions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31600" y="1600200"/>
            <a:ext cx="7854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Files and Separate Compilation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tance Variable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Keyword thi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ocal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lock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rameters of a Primitive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sider example of driving a car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see and use break pedal, accelerator pedal, steering wheel – know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wh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y 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d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see mechanical details of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how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y do their job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ncapsulation divides class definition into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ss 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ass implement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class interfa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ll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wh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the class do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ives headings for public methods and comments about th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class implement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ains private variabl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ludes definitions of public and private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22508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3  A well encapsulated class defini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6541920" y="4068720"/>
            <a:ext cx="1636920" cy="520200"/>
          </a:xfrm>
          <a:prstGeom prst="rect">
            <a:avLst/>
          </a:prstGeom>
          <a:solidFill>
            <a:srgbClr val="ffe4c9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ogrammer who uses the 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6"/>
          <p:cNvSpPr/>
          <p:nvPr/>
        </p:nvSpPr>
        <p:spPr>
          <a:xfrm>
            <a:off x="5743440" y="4352760"/>
            <a:ext cx="73512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1"/>
          <a:stretch/>
        </p:blipFill>
        <p:spPr>
          <a:xfrm>
            <a:off x="1058760" y="2265480"/>
            <a:ext cx="4515120" cy="39909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eface class definition with comment on how to use clas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lare all instance variables in the class as privat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rovide public accessor methods to retrieve data Provide public methods manipulating da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ch methods could include public mutator method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lace a comment before each public method heading that fully specifies how to use metho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ke any helping methods privat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Write comments within class definition to describe implementation detail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4640" y="337680"/>
            <a:ext cx="873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Automatic Documentation  </a:t>
            </a:r>
            <a:r>
              <a:rPr b="1" lang="en-US" sz="3600" spc="-1" strike="noStrike">
                <a:solidFill>
                  <a:srgbClr val="ed7d31"/>
                </a:solidFill>
                <a:latin typeface="Courier New"/>
              </a:rPr>
              <a:t>javadoc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Generates documentation for class interfa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mments in source code must be enclosed in  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/**  */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tility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javadoc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will includ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se comm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adings of public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utput of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javadoc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is HTML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ML Class Diagra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call Figure 5.2  A class outline as a UML class dia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tretch/>
        </p:blipFill>
        <p:spPr>
          <a:xfrm>
            <a:off x="1808280" y="2855880"/>
            <a:ext cx="5686200" cy="2684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5" descr=""/>
          <p:cNvPicPr/>
          <p:nvPr/>
        </p:nvPicPr>
        <p:blipFill>
          <a:blip r:embed="rId1"/>
          <a:stretch/>
        </p:blipFill>
        <p:spPr>
          <a:xfrm>
            <a:off x="3521160" y="1347840"/>
            <a:ext cx="5346720" cy="4120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ML Class Diagra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4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 the 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urchase</a:t>
            </a:r>
            <a:br>
              <a:rPr sz="30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6" name="Group 11"/>
          <p:cNvGrpSpPr/>
          <p:nvPr/>
        </p:nvGrpSpPr>
        <p:grpSpPr>
          <a:xfrm>
            <a:off x="990720" y="3276720"/>
            <a:ext cx="2971800" cy="1965240"/>
            <a:chOff x="990720" y="3276720"/>
            <a:chExt cx="2971800" cy="1965240"/>
          </a:xfrm>
        </p:grpSpPr>
        <p:sp>
          <p:nvSpPr>
            <p:cNvPr id="207" name="Rounded Rectangle 5"/>
            <p:cNvSpPr/>
            <p:nvPr/>
          </p:nvSpPr>
          <p:spPr>
            <a:xfrm>
              <a:off x="3581640" y="3276720"/>
              <a:ext cx="380880" cy="1965240"/>
            </a:xfrm>
            <a:custGeom>
              <a:avLst/>
              <a:gdLst>
                <a:gd name="textAreaLeft" fmla="*/ 18360 w 380880"/>
                <a:gd name="textAreaRight" fmla="*/ 362520 w 380880"/>
                <a:gd name="textAreaTop" fmla="*/ 18360 h 1965240"/>
                <a:gd name="textAreaBottom" fmla="*/ 1946880 h 1965240"/>
              </a:gdLst>
              <a:ahLst/>
              <a:rect l="textAreaLeft" t="textAreaTop" r="textAreaRight" b="textAreaBottom"/>
              <a:pathLst>
                <a:path w="21600" h="111365">
                  <a:moveTo>
                    <a:pt x="3600" y="0"/>
                  </a:moveTo>
                  <a:arcTo wR="3600" hR="3600" stAng="16200000" swAng="-5400000"/>
                  <a:lnTo>
                    <a:pt x="0" y="107765"/>
                  </a:lnTo>
                  <a:arcTo wR="3600" hR="3600" stAng="10800000" swAng="-5400000"/>
                  <a:lnTo>
                    <a:pt x="18000" y="11136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6"/>
            <p:cNvSpPr/>
            <p:nvPr/>
          </p:nvSpPr>
          <p:spPr>
            <a:xfrm>
              <a:off x="990720" y="4586400"/>
              <a:ext cx="2027160" cy="642600"/>
            </a:xfrm>
            <a:prstGeom prst="rect">
              <a:avLst/>
            </a:prstGeom>
            <a:solidFill>
              <a:srgbClr val="d3ebe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us signs imply public 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9" name="Straight Arrow Connector 10"/>
            <p:cNvCxnSpPr/>
            <p:nvPr/>
          </p:nvCxnSpPr>
          <p:spPr>
            <a:xfrm flipV="1">
              <a:off x="2544840" y="3869640"/>
              <a:ext cx="991440" cy="67212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210" name="Group 16"/>
          <p:cNvGrpSpPr/>
          <p:nvPr/>
        </p:nvGrpSpPr>
        <p:grpSpPr>
          <a:xfrm>
            <a:off x="3611520" y="2103480"/>
            <a:ext cx="4998960" cy="1206000"/>
            <a:chOff x="3611520" y="2103480"/>
            <a:chExt cx="4998960" cy="1206000"/>
          </a:xfrm>
        </p:grpSpPr>
        <p:sp>
          <p:nvSpPr>
            <p:cNvPr id="211" name="Rounded Rectangle 12"/>
            <p:cNvSpPr/>
            <p:nvPr/>
          </p:nvSpPr>
          <p:spPr>
            <a:xfrm>
              <a:off x="3611520" y="2103480"/>
              <a:ext cx="350640" cy="822240"/>
            </a:xfrm>
            <a:custGeom>
              <a:avLst/>
              <a:gdLst>
                <a:gd name="textAreaLeft" fmla="*/ 16920 w 350640"/>
                <a:gd name="textAreaRight" fmla="*/ 333720 w 350640"/>
                <a:gd name="textAreaTop" fmla="*/ 16920 h 822240"/>
                <a:gd name="textAreaBottom" fmla="*/ 805320 h 822240"/>
              </a:gdLst>
              <a:ahLst/>
              <a:rect l="textAreaLeft" t="textAreaTop" r="textAreaRight" b="textAreaBottom"/>
              <a:pathLst>
                <a:path w="21600" h="50622">
                  <a:moveTo>
                    <a:pt x="3600" y="0"/>
                  </a:moveTo>
                  <a:arcTo wR="3600" hR="3600" stAng="16200000" swAng="-5400000"/>
                  <a:lnTo>
                    <a:pt x="0" y="47022"/>
                  </a:lnTo>
                  <a:arcTo wR="3600" hR="3600" stAng="10800000" swAng="-5400000"/>
                  <a:lnTo>
                    <a:pt x="18000" y="5062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13"/>
            <p:cNvSpPr/>
            <p:nvPr/>
          </p:nvSpPr>
          <p:spPr>
            <a:xfrm>
              <a:off x="6583320" y="2666880"/>
              <a:ext cx="2027160" cy="642600"/>
            </a:xfrm>
            <a:prstGeom prst="rect">
              <a:avLst/>
            </a:prstGeom>
            <a:solidFill>
              <a:srgbClr val="d3ebe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e7e6e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inus signs imply private 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3" name="Straight Arrow Connector 15"/>
            <p:cNvCxnSpPr>
              <a:endCxn id="211" idx="3"/>
            </p:cNvCxnSpPr>
            <p:nvPr/>
          </p:nvCxnSpPr>
          <p:spPr>
            <a:xfrm flipH="1" flipV="1">
              <a:off x="3961440" y="2514240"/>
              <a:ext cx="2607480" cy="335520"/>
            </a:xfrm>
            <a:prstGeom prst="straightConnector1">
              <a:avLst/>
            </a:prstGeom>
            <a:ln w="648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ML Class Diagram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tains more than interface, less than full implement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ually written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befor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lass is defin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d by the programmer defining the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rast with the interface used by programmer who uses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77720" y="628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Objects and References: Outline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3360" y="2160360"/>
            <a:ext cx="8083440" cy="39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 of a Class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efining an equals Method for a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oolean-Valued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arameters of a Class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 variables are implemented as a memory loc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ata of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primitive typ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tored in the memory location assigned to th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 of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class type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tains memory address of object named by th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Method Defini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program consists of obj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s of class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s that interact with one ano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gram objects can repres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s in real worl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bject itself not stored in th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ored elsewhere in memo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contains address of where it is sto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ddress called the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referenc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to the variabl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reference typ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ariable holds references (memory addresses)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makes memory management of class types more effici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5a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havio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clas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Picture 8" descr=""/>
          <p:cNvPicPr/>
          <p:nvPr/>
        </p:nvPicPr>
        <p:blipFill>
          <a:blip r:embed="rId1"/>
          <a:stretch/>
        </p:blipFill>
        <p:spPr>
          <a:xfrm>
            <a:off x="2962440" y="1419120"/>
            <a:ext cx="5321160" cy="46767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5b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havio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clas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8" descr=""/>
          <p:cNvPicPr/>
          <p:nvPr/>
        </p:nvPicPr>
        <p:blipFill>
          <a:blip r:embed="rId1"/>
          <a:stretch/>
        </p:blipFill>
        <p:spPr>
          <a:xfrm>
            <a:off x="3187800" y="1744560"/>
            <a:ext cx="5479920" cy="4178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5c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havio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clas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8" descr=""/>
          <p:cNvPicPr/>
          <p:nvPr/>
        </p:nvPicPr>
        <p:blipFill>
          <a:blip r:embed="rId1"/>
          <a:stretch/>
        </p:blipFill>
        <p:spPr>
          <a:xfrm>
            <a:off x="2703600" y="1870200"/>
            <a:ext cx="6008760" cy="3735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5d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Behavior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f class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Picture 8" descr=""/>
          <p:cNvPicPr/>
          <p:nvPr/>
        </p:nvPicPr>
        <p:blipFill>
          <a:blip r:embed="rId1"/>
          <a:stretch/>
        </p:blipFill>
        <p:spPr>
          <a:xfrm>
            <a:off x="2801880" y="1855800"/>
            <a:ext cx="5919840" cy="3817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6a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angers of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ing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=</a:t>
            </a:r>
            <a:br>
              <a:rPr sz="30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ith obj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Picture 8" descr=""/>
          <p:cNvPicPr/>
          <p:nvPr/>
        </p:nvPicPr>
        <p:blipFill>
          <a:blip r:embed="rId1"/>
          <a:stretch/>
        </p:blipFill>
        <p:spPr>
          <a:xfrm>
            <a:off x="3097080" y="1855800"/>
            <a:ext cx="5742000" cy="3465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Variable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5.6b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angers of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ing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=</a:t>
            </a:r>
            <a:br>
              <a:rPr sz="30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ith objec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9" name="Picture 8" descr=""/>
          <p:cNvPicPr/>
          <p:nvPr/>
        </p:nvPicPr>
        <p:blipFill>
          <a:blip r:embed="rId1"/>
          <a:stretch/>
        </p:blipFill>
        <p:spPr>
          <a:xfrm>
            <a:off x="3244680" y="1241280"/>
            <a:ext cx="5516640" cy="49388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Defining an </a:t>
            </a:r>
            <a:r>
              <a:rPr b="1" lang="en-US" sz="33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s demonstrated by previous figur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annot use == to compare two objec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must write a method for a given class which will make the comparison as nee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7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for this class method used same way a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 for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tr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Demonstrating an </a:t>
            </a:r>
            <a:r>
              <a:rPr b="1" lang="en-US" sz="40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4000" spc="-1" strike="noStrike">
                <a:solidFill>
                  <a:srgbClr val="000000"/>
                </a:solidFill>
                <a:latin typeface="Calibri Light"/>
              </a:rPr>
              <a:t> Method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18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SpeciesEquals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difference in the two comparison method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=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ersus 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.equals( 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1547640" y="4203720"/>
            <a:ext cx="5835960" cy="1558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45" name="Text Box 7"/>
          <p:cNvSpPr/>
          <p:nvPr/>
        </p:nvSpPr>
        <p:spPr>
          <a:xfrm>
            <a:off x="6770520" y="391644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omplete 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856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19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7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Diagram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 the class 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pecie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 listing 5.1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7" descr=""/>
          <p:cNvPicPr/>
          <p:nvPr/>
        </p:nvPicPr>
        <p:blipFill>
          <a:blip r:embed="rId1"/>
          <a:stretch/>
        </p:blipFill>
        <p:spPr>
          <a:xfrm>
            <a:off x="3760920" y="2529000"/>
            <a:ext cx="5114880" cy="36576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Method Defini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1  A class as a bluepri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7" descr=""/>
          <p:cNvPicPr/>
          <p:nvPr/>
        </p:nvPicPr>
        <p:blipFill>
          <a:blip r:embed="rId1"/>
          <a:stretch/>
        </p:blipFill>
        <p:spPr>
          <a:xfrm>
            <a:off x="2343240" y="2577960"/>
            <a:ext cx="4581360" cy="2962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Boolean-Valued Method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 can return a value of typ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boolea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Use a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boolea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value in th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retur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tatemen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te method from listing 5.19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1646280" y="3922560"/>
            <a:ext cx="6234120" cy="20210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Unit Testing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4425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 methodology to test correctness of individual units of cod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ypically methods, clas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llection of unit tests is the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test sui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process of running tests repeatedly after changes are make sure everything still works is 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regression testing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650880" y="5322960"/>
            <a:ext cx="675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ew sample code, listing 5.2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as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Species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arameters of a Class Typ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hen assignment operator used with objects of class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ly memory address is copi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milar to use of parameter of class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mory address of actual parameter passed to formal parame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mal parameter may access public elements of the cla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tual parameter thus can be  changed by class metho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21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DemoSpec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 different parameter types and resul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22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meters of a class type versus parameters of a primitive type</a:t>
            </a:r>
            <a:br>
              <a:rPr sz="18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Parameters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1"/>
          <a:srcRect l="0" t="1433" r="1446" b="2676"/>
          <a:stretch/>
        </p:blipFill>
        <p:spPr>
          <a:xfrm>
            <a:off x="1500120" y="1405080"/>
            <a:ext cx="6429600" cy="47228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61" name="Text Box 7"/>
          <p:cNvSpPr/>
          <p:nvPr/>
        </p:nvSpPr>
        <p:spPr>
          <a:xfrm>
            <a:off x="6770520" y="3916440"/>
            <a:ext cx="1524240" cy="10087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Graphics Supplement: Outlin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884240" y="2292120"/>
            <a:ext cx="6802560" cy="38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Graphics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ini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dding Labels to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6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n object of the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lass represents an area of the scree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tance variables specify area of screen represente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you run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itabl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object created automatical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object used as an argument in th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ai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eth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6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8a  Some methods in class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Graphic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5" descr=""/>
          <p:cNvPicPr/>
          <p:nvPr/>
        </p:nvPicPr>
        <p:blipFill>
          <a:blip r:embed="rId1"/>
          <a:stretch/>
        </p:blipFill>
        <p:spPr>
          <a:xfrm>
            <a:off x="1135080" y="2984400"/>
            <a:ext cx="7103880" cy="2665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600" spc="-1" strike="noStrike">
                <a:solidFill>
                  <a:srgbClr val="ed7d31"/>
                </a:solidFill>
                <a:latin typeface="Courier New"/>
              </a:rPr>
              <a:t>Graphics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Clas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8b  Some methods in class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Graphics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5" descr=""/>
          <p:cNvPicPr/>
          <p:nvPr/>
        </p:nvPicPr>
        <p:blipFill>
          <a:blip r:embed="rId1"/>
          <a:stretch/>
        </p:blipFill>
        <p:spPr>
          <a:xfrm>
            <a:off x="1077840" y="2725560"/>
            <a:ext cx="7365960" cy="3443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Programming Exampl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ultiple faces – using a Helping method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code, listing 5.23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MultipleFa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1"/>
          <a:stretch/>
        </p:blipFill>
        <p:spPr>
          <a:xfrm>
            <a:off x="2678040" y="3203640"/>
            <a:ext cx="3797280" cy="2906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75" name="Text Box 7"/>
          <p:cNvSpPr/>
          <p:nvPr/>
        </p:nvSpPr>
        <p:spPr>
          <a:xfrm>
            <a:off x="5718240" y="3916440"/>
            <a:ext cx="152388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Method Defini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366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1 ctd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5129280" y="4897440"/>
            <a:ext cx="33289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 that are instantiations of the class </a:t>
            </a:r>
            <a:r>
              <a:rPr b="1" lang="en-US" sz="2800" spc="-1" strike="noStrike">
                <a:solidFill>
                  <a:srgbClr val="ed7d31"/>
                </a:solidFill>
                <a:latin typeface="Courier New"/>
              </a:rPr>
              <a:t>Automo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0" descr=""/>
          <p:cNvPicPr/>
          <p:nvPr/>
        </p:nvPicPr>
        <p:blipFill>
          <a:blip r:embed="rId1"/>
          <a:stretch/>
        </p:blipFill>
        <p:spPr>
          <a:xfrm>
            <a:off x="360360" y="4362480"/>
            <a:ext cx="3600360" cy="1450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103" name="Picture 12" descr=""/>
          <p:cNvPicPr/>
          <p:nvPr/>
        </p:nvPicPr>
        <p:blipFill>
          <a:blip r:embed="rId2"/>
          <a:stretch/>
        </p:blipFill>
        <p:spPr>
          <a:xfrm>
            <a:off x="2978280" y="3179880"/>
            <a:ext cx="3247920" cy="1554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pic>
        <p:nvPicPr>
          <p:cNvPr id="104" name="Picture 11" descr=""/>
          <p:cNvPicPr/>
          <p:nvPr/>
        </p:nvPicPr>
        <p:blipFill>
          <a:blip r:embed="rId3"/>
          <a:stretch/>
        </p:blipFill>
        <p:spPr>
          <a:xfrm>
            <a:off x="4983120" y="1760400"/>
            <a:ext cx="3699000" cy="1648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Calibri Light"/>
              </a:rPr>
              <a:t>Graphics2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Java includes a Graphics2D class with more functionality than the Graphics clas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ds AW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upport for more geometric sha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ur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adi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nt and shape proper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ter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mposi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form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eatures that would be useful for rich media applications or video gam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program, listing 5.24, for reading an image file and drawing it with transparenc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1" lang="en-US" sz="4600" spc="-1" strike="noStrike">
                <a:solidFill>
                  <a:srgbClr val="ed7d31"/>
                </a:solidFill>
                <a:latin typeface="Courier New"/>
              </a:rPr>
              <a:t>init</a:t>
            </a: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 Method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ini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may be defined for any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ike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pain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metho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i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n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i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alled automatically when applet is ru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ini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similar to method </a:t>
            </a:r>
            <a:r>
              <a:rPr b="1" lang="en-US" sz="3400" spc="-1" strike="noStrike">
                <a:solidFill>
                  <a:srgbClr val="ed7d31"/>
                </a:solidFill>
                <a:latin typeface="Courier New"/>
              </a:rPr>
              <a:t>mai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in an application pro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Labels to Appl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Provides a way to add text to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When component (such as a label) added to an apple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metho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in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o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use metho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ai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Adding Labels to Apple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View sample applet, listing 5.25</a:t>
            </a:r>
            <a:br>
              <a:rPr sz="2100"/>
            </a:b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class LabelDem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1538280" y="3384720"/>
            <a:ext cx="5568840" cy="2373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  <p:sp>
        <p:nvSpPr>
          <p:cNvPr id="285" name="Text Box 7"/>
          <p:cNvSpPr/>
          <p:nvPr/>
        </p:nvSpPr>
        <p:spPr>
          <a:xfrm>
            <a:off x="6195960" y="4413240"/>
            <a:ext cx="1523880" cy="916920"/>
          </a:xfrm>
          <a:prstGeom prst="rect">
            <a:avLst/>
          </a:prstGeom>
          <a:solidFill>
            <a:srgbClr val="5b9bd5"/>
          </a:solidFill>
          <a:ln w="0">
            <a:noFill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reen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es have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tance variables to store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ethod definitions to perform a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nstance variables should be privat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needs accessor, mutator method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ethods may b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lue returning metho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oid methods that do not return a valu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Keyword this used within method definition represents invoking objec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Local variables defined within method defini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mal arguments must match actual parameters with respect to number, order, and data typ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rmal parameters act like local variabl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meter of primitive type initialized with value of actual parame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 of actual parameter not altered by metho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meter of class type initialized with address of actual parameter obj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 of actual parameter may be altered by method call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method definition can include call to another method in same or different cla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condition comment states conditions that must be true before method invok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ostcondition comment describes resulting effects of method exec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tility program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javadoc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creates docum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 designers use UML notation to describe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rators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behave differently with objects of class types (vs. primitive typ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igner of class should include an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equal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raphics drawn by applet normally done from within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ai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ther applet instructions placed in </a:t>
            </a:r>
            <a:r>
              <a:rPr b="1" lang="en-US" sz="2600" spc="-1" strike="noStrike">
                <a:solidFill>
                  <a:srgbClr val="ed7d31"/>
                </a:solidFill>
                <a:latin typeface="Courier New"/>
              </a:rPr>
              <a:t>ini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meter of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pai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s of type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Graphic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ethod </a:t>
            </a:r>
            <a:r>
              <a:rPr b="1" lang="en-US" sz="3000" spc="-1" strike="noStrike">
                <a:solidFill>
                  <a:srgbClr val="ed7d31"/>
                </a:solidFill>
                <a:latin typeface="Courier New"/>
              </a:rPr>
              <a:t>setBackground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ets color of applet pa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bels added to content pane within the init metho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ass and Method Definitions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gure 5.2  A class outline as a UML class diagram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1808280" y="2855880"/>
            <a:ext cx="5686200" cy="26845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e7e6e6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9520" y="302760"/>
            <a:ext cx="893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ass Files and Separate Compilation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Each </a:t>
            </a:r>
            <a:r>
              <a:rPr b="1" lang="en-US" sz="2100" spc="-1" strike="noStrike">
                <a:solidFill>
                  <a:srgbClr val="ed7d31"/>
                </a:solidFill>
                <a:latin typeface="Courier New"/>
              </a:rPr>
              <a:t>Java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class definition usually in a file by itself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begins with name of the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ds with .</a:t>
            </a:r>
            <a:r>
              <a:rPr b="1" lang="en-US" sz="3200" spc="-1" strike="noStrike">
                <a:solidFill>
                  <a:srgbClr val="ed7d31"/>
                </a:solidFill>
                <a:latin typeface="Courier New"/>
              </a:rPr>
              <a:t>jav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ass can be compiled separatel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elpful to keep all class files used by a program in the same director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00:21:45Z</dcterms:created>
  <dc:creator>Steve Armstrong</dc:creator>
  <dc:description/>
  <dc:language>en-US</dc:language>
  <cp:lastModifiedBy>Kenrick Mock</cp:lastModifiedBy>
  <cp:lastPrinted>2009-02-22T23:27:07Z</cp:lastPrinted>
  <dcterms:modified xsi:type="dcterms:W3CDTF">2014-04-06T10:52:56Z</dcterms:modified>
  <cp:revision>88</cp:revision>
  <dc:subject/>
  <dc:title>Defining Classes and Methods</dc:title>
</cp:coreProperties>
</file>