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97769-327A-49DF-8721-54538CD7D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12998-85FF-4CB1-9A04-E4E798EC6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23F8B-467C-494A-83F9-71F430D3C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DD39A-21DB-42D0-97BD-FC378C7A3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E8A3E-54EC-4409-84E2-DBE9033CE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D9956-0D62-46AE-92DD-39E9835D6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CC48D-99DF-4BA7-A045-A34F85EEC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1BE47-93D2-4209-B89C-AAB70DB50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DEA88-78FB-4244-9A18-34BFA847B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FFF90-DB92-40D3-8D0F-46EEC7C14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F1B2D-AB74-43D7-A776-F5CF23449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A45BD-3221-4E37-9113-699B2C0D4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C3A7E-14C7-4E43-9DA3-C20A83B93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1F8AB-F622-4FF0-9FB4-2272A5D64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461EA-40BD-4AD5-8D18-5CF1EAA1D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F2C65-7EDB-4621-A654-643A3F796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55D61-9215-4EAF-AEA7-3CEBF5EE4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6C27A-66A3-45A7-9672-D6288EBC6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84BEB-97BB-460F-82B3-6B4D81795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BECD2-EBEC-4F38-81A0-7B2ADFE33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71FC0-3E73-4443-95DE-852F0A55F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66CAB-37FE-4E34-8573-153B3DB17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5D4FE-3381-4776-82E7-BCE72DF9D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176BD-0032-40F5-9B37-F6F9A8848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89C7A-51E4-4CCA-B417-D0B025D7E04C}" type="slidenum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6"/>
          <p:cNvSpPr/>
          <p:nvPr/>
        </p:nvSpPr>
        <p:spPr>
          <a:xfrm>
            <a:off x="685800" y="6400800"/>
            <a:ext cx="82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JAVA: An Introduction to Problem Solving &amp; Programming, 7</a:t>
            </a:r>
            <a:r>
              <a:rPr b="0" lang="en-US" sz="9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Ed. By Walter Savitch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SBN 0133862119 © 2015 Pearson Education, Inc., Upper Saddle River, NJ. All Rights Reserv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6"/>
          <p:cNvSpPr/>
          <p:nvPr/>
        </p:nvSpPr>
        <p:spPr>
          <a:xfrm>
            <a:off x="685800" y="6400800"/>
            <a:ext cx="82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JAVA: An Introduction to Problem Solving &amp; Programming, 7</a:t>
            </a:r>
            <a:r>
              <a:rPr b="0" lang="en-US" sz="9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Ed. By Walter Savitch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SBN 0133862119 © 2015 Pearson Education, Inc., Upper Saddle River, NJ. All Rights Reserv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7" descr=""/>
          <p:cNvPicPr/>
          <p:nvPr/>
        </p:nvPicPr>
        <p:blipFill>
          <a:blip r:embed="rId2"/>
          <a:stretch/>
        </p:blipFill>
        <p:spPr>
          <a:xfrm>
            <a:off x="2195640" y="525600"/>
            <a:ext cx="4505040" cy="17906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"/>
          <p:cNvPicPr/>
          <p:nvPr/>
        </p:nvPicPr>
        <p:blipFill>
          <a:blip r:embed="rId3"/>
          <a:stretch/>
        </p:blipFill>
        <p:spPr>
          <a:xfrm>
            <a:off x="5653080" y="2313000"/>
            <a:ext cx="1609560" cy="39996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99051-240E-46C9-A720-8393DE74E077}" type="slidenum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file:///CodeSamples3.htm#Listing 6.3" TargetMode="Externa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CodeSamples3.htm#Listing 6.4" TargetMode="Externa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file:///CodeSamples3.htm#Listing 6.5" TargetMode="External"/><Relationship Id="rId2" Type="http://schemas.openxmlformats.org/officeDocument/2006/relationships/hyperlink" Target="file:///CodeSamples3.htm#Listing 6.6" TargetMode="External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file:///CodeSamples3.htm#Listing 6.7" TargetMode="Externa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CodeSamples3.htm#Listing 6.1" TargetMode="External"/><Relationship Id="rId2" Type="http://schemas.openxmlformats.org/officeDocument/2006/relationships/hyperlink" Target="file:///CodeSamples3.htm#Listing 6.2" TargetMode="External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43000" y="2015640"/>
            <a:ext cx="6858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Calibri Light"/>
              </a:rPr>
              <a:t>More About Objects and Methods</a:t>
            </a:r>
            <a:endParaRPr b="0" lang="en-US" sz="45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143000" y="4495680"/>
            <a:ext cx="6858000" cy="16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hapter 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Defining Constructor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6840" y="1600200"/>
            <a:ext cx="2965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gure 6.2 A constructor returning a referenc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6" descr=""/>
          <p:cNvPicPr/>
          <p:nvPr/>
        </p:nvPicPr>
        <p:blipFill>
          <a:blip r:embed="rId1"/>
          <a:stretch/>
        </p:blipFill>
        <p:spPr>
          <a:xfrm>
            <a:off x="3451320" y="1878120"/>
            <a:ext cx="5437080" cy="4278240"/>
          </a:xfrm>
          <a:prstGeom prst="rect">
            <a:avLst/>
          </a:prstGeom>
          <a:ln w="0">
            <a:noFill/>
          </a:ln>
          <a:effectLst>
            <a:outerShdw dist="89095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9280" y="482400"/>
            <a:ext cx="8604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 Light"/>
              </a:rPr>
              <a:t>Calling Methods from Other Constructors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onstructor can call other class method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View </a:t>
            </a:r>
            <a:r>
              <a:rPr b="0" lang="en-US" sz="21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sample code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, listing 6.3</a:t>
            </a:r>
            <a:br>
              <a:rPr sz="2100"/>
            </a:br>
            <a:r>
              <a:rPr b="1" lang="en-US" sz="2100" spc="-1" strike="noStrike">
                <a:solidFill>
                  <a:srgbClr val="ed7d31"/>
                </a:solidFill>
                <a:latin typeface="Courier New"/>
              </a:rPr>
              <a:t>class Pet2  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te method </a:t>
            </a: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s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Keeps from repeating co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4" descr=""/>
          <p:cNvPicPr/>
          <p:nvPr/>
        </p:nvPicPr>
        <p:blipFill>
          <a:blip r:embed="rId2"/>
          <a:stretch/>
        </p:blipFill>
        <p:spPr>
          <a:xfrm>
            <a:off x="1841400" y="2473200"/>
            <a:ext cx="5564160" cy="1260720"/>
          </a:xfrm>
          <a:prstGeom prst="rect">
            <a:avLst/>
          </a:prstGeom>
          <a:ln w="0">
            <a:noFill/>
          </a:ln>
          <a:effectLst>
            <a:outerShdw dist="89095" dir="2700000" blurRad="0" rotWithShape="0">
              <a:srgbClr val="000000">
                <a:alpha val="40000"/>
              </a:srgbClr>
            </a:outerShdw>
          </a:effectLst>
        </p:spPr>
      </p:pic>
      <p:cxnSp>
        <p:nvCxnSpPr>
          <p:cNvPr id="112" name="Straight Arrow Connector 5"/>
          <p:cNvCxnSpPr>
            <a:endCxn id="113" idx="7"/>
          </p:cNvCxnSpPr>
          <p:nvPr/>
        </p:nvCxnSpPr>
        <p:spPr>
          <a:xfrm flipH="1">
            <a:off x="3090600" y="2133720"/>
            <a:ext cx="2472480" cy="993960"/>
          </a:xfrm>
          <a:prstGeom prst="straightConnector1">
            <a:avLst/>
          </a:prstGeom>
          <a:ln w="64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13" name="Oval 6"/>
          <p:cNvSpPr/>
          <p:nvPr/>
        </p:nvSpPr>
        <p:spPr>
          <a:xfrm>
            <a:off x="2270160" y="3063960"/>
            <a:ext cx="960480" cy="44136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36320" y="502920"/>
            <a:ext cx="864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 Light"/>
              </a:rPr>
              <a:t>Calling Constructor from Other Constructors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rom listing 6.3 we have the initial constructor and method se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In the other constructors use the this reference to call initial constructor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View </a:t>
            </a:r>
            <a:r>
              <a:rPr b="0" lang="en-US" sz="21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revised class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, listing 6.4</a:t>
            </a:r>
            <a:br>
              <a:rPr sz="2100"/>
            </a:br>
            <a:r>
              <a:rPr b="1" lang="en-US" sz="2100" spc="-1" strike="noStrike">
                <a:solidFill>
                  <a:srgbClr val="ed7d31"/>
                </a:solidFill>
                <a:latin typeface="Courier New"/>
              </a:rPr>
              <a:t>class Pet3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te calls to initial construct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65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 Light"/>
              </a:rPr>
              <a:t>Static Variables &amp; Methods: Outline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65280" y="1600200"/>
            <a:ext cx="8021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tatic Variable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tatic Method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Dividing the Task of a </a:t>
            </a:r>
            <a:r>
              <a:rPr b="1" lang="en-US" sz="3600" spc="-1" strike="noStrike">
                <a:solidFill>
                  <a:srgbClr val="ed7d31"/>
                </a:solidFill>
                <a:latin typeface="Courier New"/>
              </a:rPr>
              <a:t>main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Method into Subtask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Adding a </a:t>
            </a:r>
            <a:r>
              <a:rPr b="1" lang="en-US" sz="3600" spc="-1" strike="noStrike">
                <a:solidFill>
                  <a:srgbClr val="ed7d31"/>
                </a:solidFill>
                <a:latin typeface="Courier New"/>
              </a:rPr>
              <a:t>main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Method to a clas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3600" spc="-1" strike="noStrike">
                <a:solidFill>
                  <a:srgbClr val="ed7d31"/>
                </a:solidFill>
                <a:latin typeface="Courier New"/>
              </a:rPr>
              <a:t>Math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Clas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Wrapper Classe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Static Variable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503280" y="1355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tatic variables are shared by all objects of a clas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s declared </a:t>
            </a: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static final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re considered constants – value cannot be chang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Variables declared </a:t>
            </a:r>
            <a:r>
              <a:rPr b="1" lang="en-US" sz="2100" spc="-1" strike="noStrike">
                <a:solidFill>
                  <a:srgbClr val="ed7d31"/>
                </a:solidFill>
                <a:latin typeface="Courier New"/>
              </a:rPr>
              <a:t>static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(without </a:t>
            </a:r>
            <a:r>
              <a:rPr b="1" lang="en-US" sz="2100" spc="-1" strike="noStrike">
                <a:solidFill>
                  <a:srgbClr val="ed7d31"/>
                </a:solidFill>
                <a:latin typeface="Courier New"/>
              </a:rPr>
              <a:t>final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) can be changed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nly one instance of the variable exis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t can be accessed by all instances of the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Static Variable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tatic variables also called </a:t>
            </a:r>
            <a:r>
              <a:rPr b="0" i="1" lang="en-US" sz="2100" spc="-1" strike="noStrike">
                <a:solidFill>
                  <a:srgbClr val="000000"/>
                </a:solidFill>
                <a:latin typeface="Calibri"/>
              </a:rPr>
              <a:t>class variable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trast with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stance variabl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Do not confuse class variables with variables of a class typ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Both static variables and instance variables are sometimes called </a:t>
            </a:r>
            <a:r>
              <a:rPr b="0" i="1" lang="en-US" sz="2100" spc="-1" strike="noStrike">
                <a:solidFill>
                  <a:srgbClr val="000000"/>
                </a:solidFill>
                <a:latin typeface="Calibri"/>
              </a:rPr>
              <a:t>fields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i="1" lang="en-US" sz="2100" spc="-1" strike="noStrike">
                <a:solidFill>
                  <a:srgbClr val="000000"/>
                </a:solidFill>
                <a:latin typeface="Calibri"/>
              </a:rPr>
              <a:t>data member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Static Method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ome methods may have no relation to any type of objec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Exampl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mpute max of two intege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vert character from upper- to lower ca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tatic method declared </a:t>
            </a:r>
            <a:r>
              <a:rPr b="0" lang="en-US" sz="2100" spc="-1" strike="noStrike" u="sng">
                <a:solidFill>
                  <a:srgbClr val="000000"/>
                </a:solidFill>
                <a:uFillTx/>
                <a:latin typeface="Calibri"/>
              </a:rPr>
              <a:t>in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a clas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an be invoked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without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using an objec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stead use the class na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Static Method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View </a:t>
            </a:r>
            <a:r>
              <a:rPr b="0" lang="en-US" sz="21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sample class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, listing 6.5</a:t>
            </a:r>
            <a:br>
              <a:rPr sz="2100"/>
            </a:br>
            <a:r>
              <a:rPr b="1" lang="en-US" sz="2100" spc="-1" strike="noStrike">
                <a:solidFill>
                  <a:srgbClr val="ed7d31"/>
                </a:solidFill>
                <a:latin typeface="Courier New"/>
              </a:rPr>
              <a:t>class DimensionConverter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View </a:t>
            </a:r>
            <a:r>
              <a:rPr b="0" lang="en-US" sz="21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demonstration program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, listing 6.6</a:t>
            </a:r>
            <a:br>
              <a:rPr sz="2100"/>
            </a:br>
            <a:r>
              <a:rPr b="1" lang="en-US" sz="2100" spc="-1" strike="noStrike">
                <a:solidFill>
                  <a:srgbClr val="ed7d31"/>
                </a:solidFill>
                <a:latin typeface="Courier New"/>
              </a:rPr>
              <a:t>class DimensionConverterDemo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3"/>
          <a:stretch/>
        </p:blipFill>
        <p:spPr>
          <a:xfrm>
            <a:off x="1446120" y="4313160"/>
            <a:ext cx="6534360" cy="16383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  <p:sp>
        <p:nvSpPr>
          <p:cNvPr id="127" name="Text Box 7"/>
          <p:cNvSpPr/>
          <p:nvPr/>
        </p:nvSpPr>
        <p:spPr>
          <a:xfrm>
            <a:off x="7005600" y="4568760"/>
            <a:ext cx="1523880" cy="1008720"/>
          </a:xfrm>
          <a:prstGeom prst="rect">
            <a:avLst/>
          </a:prstGeom>
          <a:solidFill>
            <a:srgbClr val="5b9bd5"/>
          </a:solidFill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mpl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reen out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90160"/>
            <a:ext cx="8481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 Light"/>
              </a:rPr>
              <a:t>Mixing Static and Nonstatic Methods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View </a:t>
            </a:r>
            <a:r>
              <a:rPr b="0" lang="en-US" sz="21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sample class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, listing 6.7</a:t>
            </a:r>
            <a:br>
              <a:rPr sz="2100"/>
            </a:br>
            <a:r>
              <a:rPr b="1" lang="en-US" sz="2100" spc="-1" strike="noStrike">
                <a:solidFill>
                  <a:srgbClr val="ed7d31"/>
                </a:solidFill>
                <a:latin typeface="Courier New"/>
              </a:rPr>
              <a:t>class SavingsAccoun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View demo program, listing 6.8</a:t>
            </a:r>
            <a:br>
              <a:rPr sz="2100"/>
            </a:br>
            <a:r>
              <a:rPr b="1" lang="en-US" sz="2100" spc="-1" strike="noStrike">
                <a:solidFill>
                  <a:srgbClr val="ed7d31"/>
                </a:solidFill>
                <a:latin typeface="Courier New"/>
              </a:rPr>
              <a:t>class SavingsAccountDemo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ed7d31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Picture 2" descr=""/>
          <p:cNvPicPr/>
          <p:nvPr/>
        </p:nvPicPr>
        <p:blipFill>
          <a:blip r:embed="rId2"/>
          <a:stretch/>
        </p:blipFill>
        <p:spPr>
          <a:xfrm>
            <a:off x="1444680" y="3895560"/>
            <a:ext cx="6505560" cy="22575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  <p:sp>
        <p:nvSpPr>
          <p:cNvPr id="131" name="Text Box 7"/>
          <p:cNvSpPr/>
          <p:nvPr/>
        </p:nvSpPr>
        <p:spPr>
          <a:xfrm>
            <a:off x="7005600" y="4568760"/>
            <a:ext cx="1523880" cy="1008720"/>
          </a:xfrm>
          <a:prstGeom prst="rect">
            <a:avLst/>
          </a:prstGeom>
          <a:solidFill>
            <a:srgbClr val="5b9bd5"/>
          </a:solidFill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mpl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reen out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Tasks of </a:t>
            </a:r>
            <a:r>
              <a:rPr b="1" lang="en-US" sz="3300" spc="-1" strike="noStrike">
                <a:solidFill>
                  <a:srgbClr val="ed7d31"/>
                </a:solidFill>
                <a:latin typeface="Courier New"/>
              </a:rPr>
              <a:t>main</a:t>
            </a: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 in Subtask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565200" y="1457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Program may hav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mplicated logi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petitive co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reate static methods to accomplish subtasks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onsider example code, listing 6.9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en-US" sz="3600" spc="-1" strike="noStrike">
                <a:solidFill>
                  <a:srgbClr val="ed7d31"/>
                </a:solidFill>
                <a:latin typeface="Courier New"/>
              </a:rPr>
              <a:t>main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method with repetitive cod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Note alternative code, listing 6.10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uses helping methods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Objective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1095120" y="1600200"/>
            <a:ext cx="7591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Define and use constructor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Write and use static variables and method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Use methods from class </a:t>
            </a:r>
            <a:r>
              <a:rPr b="1" lang="en-US" sz="3600" spc="-1" strike="noStrike">
                <a:solidFill>
                  <a:srgbClr val="ed7d31"/>
                </a:solidFill>
                <a:latin typeface="Courier New"/>
              </a:rPr>
              <a:t>Math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Use predefined wrapper classe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Use stubs, drivers to test classes and program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Adding Method </a:t>
            </a:r>
            <a:r>
              <a:rPr b="1" lang="en-US" sz="3300" spc="-1" strike="noStrike">
                <a:solidFill>
                  <a:srgbClr val="ed7d31"/>
                </a:solidFill>
                <a:latin typeface="Courier New"/>
              </a:rPr>
              <a:t>main</a:t>
            </a: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 to a Clas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thod main used so far in its own class within a separate fi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ften useful to include method main within class defini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 create objects in other class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 be run as a progra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te example code, listing 6.11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redefined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class Spec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en used as ordinary class, method </a:t>
            </a:r>
            <a:r>
              <a:rPr b="1" lang="en-US" sz="3200" spc="-1" strike="noStrike">
                <a:solidFill>
                  <a:srgbClr val="ed7d31"/>
                </a:solidFill>
                <a:latin typeface="Courier New"/>
              </a:rPr>
              <a:t>mai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ignor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The </a:t>
            </a:r>
            <a:r>
              <a:rPr b="1" lang="en-US" sz="3300" spc="-1" strike="noStrike">
                <a:solidFill>
                  <a:srgbClr val="ed7d31"/>
                </a:solidFill>
                <a:latin typeface="Courier New"/>
              </a:rPr>
              <a:t>Math</a:t>
            </a: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 Clas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403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vides many standard mathematical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utomatically provided, no import need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ample methods, figure 6.3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Picture 5" descr=""/>
          <p:cNvPicPr/>
          <p:nvPr/>
        </p:nvPicPr>
        <p:blipFill>
          <a:blip r:embed="rId1"/>
          <a:stretch/>
        </p:blipFill>
        <p:spPr>
          <a:xfrm>
            <a:off x="1297080" y="3063960"/>
            <a:ext cx="6966000" cy="3027240"/>
          </a:xfrm>
          <a:prstGeom prst="rect">
            <a:avLst/>
          </a:prstGeom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The </a:t>
            </a:r>
            <a:r>
              <a:rPr b="1" lang="en-US" sz="3300" spc="-1" strike="noStrike">
                <a:solidFill>
                  <a:srgbClr val="ed7d31"/>
                </a:solidFill>
                <a:latin typeface="Courier New"/>
              </a:rPr>
              <a:t>Math</a:t>
            </a: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 Clas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Example methods, figure 6.3b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1" name="Group 9"/>
          <p:cNvGrpSpPr/>
          <p:nvPr/>
        </p:nvGrpSpPr>
        <p:grpSpPr>
          <a:xfrm>
            <a:off x="1347840" y="2424240"/>
            <a:ext cx="6421320" cy="3733560"/>
            <a:chOff x="1347840" y="2424240"/>
            <a:chExt cx="6421320" cy="3733560"/>
          </a:xfrm>
        </p:grpSpPr>
        <p:pic>
          <p:nvPicPr>
            <p:cNvPr id="142" name="Picture 8" descr=""/>
            <p:cNvPicPr/>
            <p:nvPr/>
          </p:nvPicPr>
          <p:blipFill>
            <a:blip r:embed="rId1"/>
            <a:srcRect l="0" t="0" r="0" b="90429"/>
            <a:stretch/>
          </p:blipFill>
          <p:spPr>
            <a:xfrm>
              <a:off x="1349280" y="2424240"/>
              <a:ext cx="6419880" cy="57780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e7e6e6">
                  <a:alpha val="50000"/>
                </a:srgbClr>
              </a:outerShdw>
            </a:effectLst>
          </p:spPr>
        </p:pic>
        <p:pic>
          <p:nvPicPr>
            <p:cNvPr id="143" name="Picture 8" descr=""/>
            <p:cNvPicPr/>
            <p:nvPr/>
          </p:nvPicPr>
          <p:blipFill>
            <a:blip r:embed="rId2"/>
            <a:srcRect l="0" t="47421" r="0" b="0"/>
            <a:stretch/>
          </p:blipFill>
          <p:spPr>
            <a:xfrm>
              <a:off x="1347840" y="2987640"/>
              <a:ext cx="6419880" cy="317016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e7e6e6">
                  <a:alpha val="50000"/>
                </a:srgbClr>
              </a:outerShdw>
            </a:effectLst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Random Number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Courier New"/>
                <a:ea typeface="Courier New"/>
              </a:rPr>
              <a:t>Math.random()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returns a random double that is greater than or equal to zero and less than 1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Java also has a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  <a:ea typeface="Courier New"/>
              </a:rPr>
              <a:t>Random</a:t>
            </a:r>
            <a:r>
              <a:rPr b="0" lang="en-US" sz="21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ass to generate random number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an scale using addition and multiplication; the following simulates rolling a six sided di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die = (int) (6.0 * Math.random()) + 1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Wrapper Classe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Recall that arguments of primitive type treated differently from those of a class typ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y need to treat primitive value as an objec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Java provides </a:t>
            </a:r>
            <a:r>
              <a:rPr b="0" i="1" lang="en-US" sz="2100" spc="-1" strike="noStrike">
                <a:solidFill>
                  <a:srgbClr val="000000"/>
                </a:solidFill>
                <a:latin typeface="Calibri"/>
              </a:rPr>
              <a:t>wrapper classes 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r each primitive typ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ethods provided to act on valu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Wrapper Classe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60948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Allow programmer to have an object that corresponds to value of primitive typ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ontain useful predefined constants and method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Wrapper classes have no default constructor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ogrammer must specify an initializing value when creating new objec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Wrapper classes have no </a:t>
            </a:r>
            <a:r>
              <a:rPr b="1" lang="en-US" sz="2100" spc="-1" strike="noStrike">
                <a:solidFill>
                  <a:srgbClr val="ed7d31"/>
                </a:solidFill>
                <a:latin typeface="Courier New"/>
              </a:rPr>
              <a:t>set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method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Wrapper Classe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55680" y="1600200"/>
            <a:ext cx="8788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gure 6.4a Static methods in class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Charac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" name="Picture 5" descr=""/>
          <p:cNvPicPr/>
          <p:nvPr/>
        </p:nvPicPr>
        <p:blipFill>
          <a:blip r:embed="rId1"/>
          <a:stretch/>
        </p:blipFill>
        <p:spPr>
          <a:xfrm>
            <a:off x="768240" y="2444760"/>
            <a:ext cx="7847280" cy="2565360"/>
          </a:xfrm>
          <a:prstGeom prst="rect">
            <a:avLst/>
          </a:prstGeom>
          <a:ln w="12600">
            <a:solidFill>
              <a:srgbClr val="e7e6e6"/>
            </a:solidFill>
            <a:miter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Wrapper Classe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55680" y="1600200"/>
            <a:ext cx="8788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gure 6.4b Static methods in class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Charac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5" name="Group 8"/>
          <p:cNvGrpSpPr/>
          <p:nvPr/>
        </p:nvGrpSpPr>
        <p:grpSpPr>
          <a:xfrm>
            <a:off x="704880" y="2397240"/>
            <a:ext cx="8096400" cy="3827520"/>
            <a:chOff x="704880" y="2397240"/>
            <a:chExt cx="8096400" cy="3827520"/>
          </a:xfrm>
        </p:grpSpPr>
        <p:pic>
          <p:nvPicPr>
            <p:cNvPr id="156" name="Picture 7" descr=""/>
            <p:cNvPicPr/>
            <p:nvPr/>
          </p:nvPicPr>
          <p:blipFill>
            <a:blip r:embed="rId1"/>
            <a:srcRect l="0" t="0" r="0" b="86204"/>
            <a:stretch/>
          </p:blipFill>
          <p:spPr>
            <a:xfrm>
              <a:off x="704880" y="2397240"/>
              <a:ext cx="8096400" cy="796680"/>
            </a:xfrm>
            <a:prstGeom prst="rect">
              <a:avLst/>
            </a:prstGeom>
            <a:ln w="12600">
              <a:solidFill>
                <a:srgbClr val="e7e6e6"/>
              </a:solidFill>
              <a:miter/>
            </a:ln>
            <a:effectLst>
              <a:outerShdw dist="107932" dir="2700000" blurRad="0" rotWithShape="0">
                <a:srgbClr val="e7e6e6">
                  <a:alpha val="50000"/>
                </a:srgbClr>
              </a:outerShdw>
            </a:effectLst>
          </p:spPr>
        </p:pic>
        <p:pic>
          <p:nvPicPr>
            <p:cNvPr id="157" name="Picture 8" descr=""/>
            <p:cNvPicPr/>
            <p:nvPr/>
          </p:nvPicPr>
          <p:blipFill>
            <a:blip r:embed="rId2"/>
            <a:srcRect l="0" t="46825" r="0" b="0"/>
            <a:stretch/>
          </p:blipFill>
          <p:spPr>
            <a:xfrm>
              <a:off x="704880" y="3154320"/>
              <a:ext cx="8096400" cy="3070440"/>
            </a:xfrm>
            <a:prstGeom prst="rect">
              <a:avLst/>
            </a:prstGeom>
            <a:ln w="12600">
              <a:solidFill>
                <a:srgbClr val="e7e6e6"/>
              </a:solidFill>
              <a:miter/>
            </a:ln>
            <a:effectLst>
              <a:outerShdw dist="107932" dir="2700000" blurRad="0" rotWithShape="0">
                <a:srgbClr val="e7e6e6">
                  <a:alpha val="50000"/>
                </a:srgbClr>
              </a:outerShdw>
            </a:effectLst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Writing Methods: Outlin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976320" y="1932120"/>
            <a:ext cx="771048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ase Study: Formatting Outpu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Decomposition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Addressing Compiler Concern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esting Method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Formatting Outpu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Algorithm to display a double amount as dollars and cent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dollar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= the number of whole dollars in amoun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cent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= the number of cents in amount. Round if there are more than two digits after the decimal poin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. Display a dollar sign,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dollar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and a decimal poin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4. Display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cent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s a two-digit integ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Action Button: Return 3">
            <a:hlinkClick r:id="" action="ppaction://hlinkshowjump?jump=previousslide"/>
          </p:cNvPr>
          <p:cNvSpPr/>
          <p:nvPr/>
        </p:nvSpPr>
        <p:spPr>
          <a:xfrm>
            <a:off x="8050320" y="5432400"/>
            <a:ext cx="645840" cy="501840"/>
          </a:xfrm>
          <a:custGeom>
            <a:avLst/>
            <a:gdLst>
              <a:gd name="textAreaLeft" fmla="*/ 32400 w 645840"/>
              <a:gd name="textAreaRight" fmla="*/ 613440 w 645840"/>
              <a:gd name="textAreaTop" fmla="*/ 32400 h 501840"/>
              <a:gd name="textAreaBottom" fmla="*/ 469440 h 501840"/>
            </a:gdLst>
            <a:ahLst/>
            <a:rect l="textAreaLeft" t="textAreaTop" r="textAreaRight" b="textAreaBottom"/>
            <a:pathLst>
              <a:path w="27794" h="21600">
                <a:moveTo>
                  <a:pt x="0" y="0"/>
                </a:moveTo>
                <a:lnTo>
                  <a:pt x="27794" y="0"/>
                </a:lnTo>
                <a:lnTo>
                  <a:pt x="27794" y="21600"/>
                </a:lnTo>
                <a:lnTo>
                  <a:pt x="0" y="21600"/>
                </a:lnTo>
                <a:close/>
              </a:path>
              <a:path fill="lightenLess" w="27794" h="21600">
                <a:moveTo>
                  <a:pt x="0" y="0"/>
                </a:moveTo>
                <a:lnTo>
                  <a:pt x="27794" y="0"/>
                </a:lnTo>
                <a:lnTo>
                  <a:pt x="26394" y="1400"/>
                </a:lnTo>
                <a:lnTo>
                  <a:pt x="1400" y="1400"/>
                </a:lnTo>
                <a:close/>
              </a:path>
              <a:path fill="darken" w="27794" h="21600">
                <a:moveTo>
                  <a:pt x="27794" y="0"/>
                </a:moveTo>
                <a:lnTo>
                  <a:pt x="27794" y="21600"/>
                </a:lnTo>
                <a:lnTo>
                  <a:pt x="26394" y="20200"/>
                </a:lnTo>
                <a:lnTo>
                  <a:pt x="26394" y="1400"/>
                </a:lnTo>
                <a:close/>
              </a:path>
              <a:path fill="darkenLess" w="27794" h="21600">
                <a:moveTo>
                  <a:pt x="277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94" y="20200"/>
                </a:lnTo>
                <a:close/>
              </a:path>
              <a:path fill="lighten" w="277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94" h="21600">
                <a:moveTo>
                  <a:pt x="6890" y="7493"/>
                </a:moveTo>
                <a:lnTo>
                  <a:pt x="10398" y="7493"/>
                </a:lnTo>
                <a:lnTo>
                  <a:pt x="10398" y="12828"/>
                </a:lnTo>
                <a:cubicBezTo>
                  <a:pt x="10398" y="13751"/>
                  <a:pt x="11199" y="14482"/>
                  <a:pt x="12234" y="14482"/>
                </a:cubicBezTo>
                <a:lnTo>
                  <a:pt x="13897" y="14482"/>
                </a:lnTo>
                <a:cubicBezTo>
                  <a:pt x="14933" y="14482"/>
                  <a:pt x="15733" y="13751"/>
                  <a:pt x="15733" y="12828"/>
                </a:cubicBezTo>
                <a:lnTo>
                  <a:pt x="15733" y="7493"/>
                </a:lnTo>
                <a:lnTo>
                  <a:pt x="13897" y="7493"/>
                </a:lnTo>
                <a:lnTo>
                  <a:pt x="17404" y="3985"/>
                </a:lnTo>
                <a:lnTo>
                  <a:pt x="21077" y="7493"/>
                </a:lnTo>
                <a:lnTo>
                  <a:pt x="19241" y="7493"/>
                </a:lnTo>
                <a:lnTo>
                  <a:pt x="19241" y="12828"/>
                </a:lnTo>
                <a:cubicBezTo>
                  <a:pt x="19241" y="15596"/>
                  <a:pt x="16665" y="18155"/>
                  <a:pt x="13897" y="18155"/>
                </a:cubicBezTo>
                <a:lnTo>
                  <a:pt x="12234" y="18155"/>
                </a:lnTo>
                <a:cubicBezTo>
                  <a:pt x="9467" y="18155"/>
                  <a:pt x="6890" y="15596"/>
                  <a:pt x="6890" y="12828"/>
                </a:cubicBezTo>
                <a:close/>
              </a:path>
            </a:pathLst>
          </a:custGeom>
          <a:gradFill rotWithShape="0">
            <a:gsLst>
              <a:gs pos="0">
                <a:srgbClr val="b5d5a7"/>
              </a:gs>
              <a:gs pos="100000">
                <a:srgbClr val="9cca86"/>
              </a:gs>
            </a:gsLst>
            <a:lin ang="5400000"/>
          </a:gradFill>
          <a:ln w="6480">
            <a:solidFill>
              <a:srgbClr val="70a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Objective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98480" y="1600200"/>
            <a:ext cx="7888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Write and use overloaded method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Define and use enumeration method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Define and use packages and </a:t>
            </a:r>
            <a:r>
              <a:rPr b="1" lang="en-US" sz="3600" spc="-1" strike="noStrike">
                <a:solidFill>
                  <a:srgbClr val="ed7d31"/>
                </a:solidFill>
                <a:latin typeface="Courier New"/>
              </a:rPr>
              <a:t>import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statement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Add buttons and icons to applet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Use event-driven programming in an apple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Formatting Outpu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View sample code, listing 6.12</a:t>
            </a:r>
            <a:br>
              <a:rPr sz="2100"/>
            </a:b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class DollarFormatFirstT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te code to separate dollars and ce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te if-else state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View sample program, listing 6.13</a:t>
            </a:r>
            <a:br>
              <a:rPr sz="2100"/>
            </a:b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class DollarFormatFirstTryDriv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te call to the </a:t>
            </a: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writ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metho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Formatting Outpu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66" name="Picture 2" descr=""/>
          <p:cNvPicPr/>
          <p:nvPr/>
        </p:nvPicPr>
        <p:blipFill>
          <a:blip r:embed="rId1"/>
          <a:stretch/>
        </p:blipFill>
        <p:spPr>
          <a:xfrm>
            <a:off x="1239840" y="1682640"/>
            <a:ext cx="6634080" cy="44928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  <p:sp>
        <p:nvSpPr>
          <p:cNvPr id="167" name="Text Box 7"/>
          <p:cNvSpPr/>
          <p:nvPr/>
        </p:nvSpPr>
        <p:spPr>
          <a:xfrm>
            <a:off x="7005600" y="4175280"/>
            <a:ext cx="1523880" cy="1008720"/>
          </a:xfrm>
          <a:prstGeom prst="rect">
            <a:avLst/>
          </a:prstGeom>
          <a:solidFill>
            <a:srgbClr val="5b9bd5"/>
          </a:solidFill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mpl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reen out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Formatting Outpu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979200" y="1816200"/>
            <a:ext cx="7707240" cy="430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View corrected code, listing 6.14</a:t>
            </a:r>
            <a:br>
              <a:rPr sz="2100"/>
            </a:b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class Dollar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te code to handle negative valu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Program in listing 6.13 will now print values correctly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Decomposition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Recall pseudocode from previous slid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With this pseudocode we </a:t>
            </a:r>
            <a:r>
              <a:rPr b="0" i="1" lang="en-US" sz="2100" spc="-1" strike="noStrike">
                <a:solidFill>
                  <a:srgbClr val="000000"/>
                </a:solidFill>
                <a:latin typeface="Calibri"/>
              </a:rPr>
              <a:t>decompose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the task into subtask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n solve each subtas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mbine code of subtask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ace in a metho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Addressing Compiler Concern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ompiler ensures necessary tasks are don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itialize variabl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clude </a:t>
            </a: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return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state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Rule of thumb: believe the compiler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hange the code as requested by compil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t is most likely correc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Testing Method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o test a method use a driver program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ample – code in listing 6.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Every method in a class should be tested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Bottom-up testing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st code at end of sequence of method calls firs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Use a stub – simplified version of a method for testing purpose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Overloading: Outlin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Overloading Basic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Overloading and Automatic Type Conversion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Overloading and the Return Typ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Programming Example: A Class for Money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Overloading Basic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When two or more methods have same name within the same clas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Java distinguishes the methods by number and types of parameter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f it cannot match a call with a definition, it attempts to do type convers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A method's name and number and type of parameters is called the </a:t>
            </a:r>
            <a:r>
              <a:rPr b="0" i="1" lang="en-US" sz="2100" spc="-1" strike="noStrike">
                <a:solidFill>
                  <a:srgbClr val="000000"/>
                </a:solidFill>
                <a:latin typeface="Calibri"/>
              </a:rPr>
              <a:t>signatur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Overloading Basic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View example program, listing 6.15</a:t>
            </a:r>
            <a:br>
              <a:rPr sz="2100"/>
            </a:br>
            <a:r>
              <a:rPr b="1" lang="en-US" sz="2100" spc="-1" strike="noStrike">
                <a:solidFill>
                  <a:srgbClr val="ed7d31"/>
                </a:solidFill>
                <a:latin typeface="Courier New"/>
              </a:rPr>
              <a:t>class Overload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Note overloaded method </a:t>
            </a:r>
            <a:r>
              <a:rPr b="1" lang="en-US" sz="2100" spc="-1" strike="noStrike">
                <a:solidFill>
                  <a:srgbClr val="ed7d31"/>
                </a:solidFill>
                <a:latin typeface="Courier New"/>
              </a:rPr>
              <a:t>getAverag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2" name="Group 5"/>
          <p:cNvGrpSpPr/>
          <p:nvPr/>
        </p:nvGrpSpPr>
        <p:grpSpPr>
          <a:xfrm>
            <a:off x="2122560" y="3782880"/>
            <a:ext cx="4540320" cy="1616040"/>
            <a:chOff x="2122560" y="3782880"/>
            <a:chExt cx="4540320" cy="1616040"/>
          </a:xfrm>
        </p:grpSpPr>
        <p:pic>
          <p:nvPicPr>
            <p:cNvPr id="183" name="Picture 2" descr=""/>
            <p:cNvPicPr/>
            <p:nvPr/>
          </p:nvPicPr>
          <p:blipFill>
            <a:blip r:embed="rId1"/>
            <a:srcRect l="0" t="0" r="60855" b="0"/>
            <a:stretch/>
          </p:blipFill>
          <p:spPr>
            <a:xfrm>
              <a:off x="2122560" y="3782880"/>
              <a:ext cx="3506760" cy="1606680"/>
            </a:xfrm>
            <a:prstGeom prst="rect">
              <a:avLst/>
            </a:prstGeom>
            <a:ln w="0">
              <a:noFill/>
            </a:ln>
            <a:effectLst>
              <a:outerShdw dist="107932" dir="2700000" blurRad="0" rotWithShape="0">
                <a:srgbClr val="e7e6e6">
                  <a:alpha val="50000"/>
                </a:srgbClr>
              </a:outerShdw>
            </a:effectLst>
          </p:spPr>
        </p:pic>
        <p:pic>
          <p:nvPicPr>
            <p:cNvPr id="184" name="Picture 2" descr=""/>
            <p:cNvPicPr/>
            <p:nvPr/>
          </p:nvPicPr>
          <p:blipFill>
            <a:blip r:embed="rId2"/>
            <a:srcRect l="88478" t="0" r="0" b="0"/>
            <a:stretch/>
          </p:blipFill>
          <p:spPr>
            <a:xfrm>
              <a:off x="5629320" y="3792240"/>
              <a:ext cx="1033560" cy="1606680"/>
            </a:xfrm>
            <a:prstGeom prst="rect">
              <a:avLst/>
            </a:prstGeom>
            <a:ln w="0">
              <a:noFill/>
            </a:ln>
            <a:effectLst>
              <a:outerShdw dist="107932" dir="2700000" blurRad="0" rotWithShape="0">
                <a:srgbClr val="e7e6e6">
                  <a:alpha val="50000"/>
                </a:srgbClr>
              </a:outerShdw>
            </a:effectLst>
          </p:spPr>
        </p:pic>
      </p:grpSp>
      <p:sp>
        <p:nvSpPr>
          <p:cNvPr id="185" name="Text Box 7"/>
          <p:cNvSpPr/>
          <p:nvPr/>
        </p:nvSpPr>
        <p:spPr>
          <a:xfrm>
            <a:off x="5983200" y="4622760"/>
            <a:ext cx="1524240" cy="1008720"/>
          </a:xfrm>
          <a:prstGeom prst="rect">
            <a:avLst/>
          </a:prstGeom>
          <a:solidFill>
            <a:srgbClr val="5b9bd5"/>
          </a:solidFill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mpl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reen out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 Light"/>
              </a:rPr>
              <a:t>Overloading and Type Conversion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verloading and automatic type conversion can confli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call definition of Pet class of listing 6.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f we pass an integer to the constructor we get the constructor for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ag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even if we intended the constructor for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weigh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member the compiler attempts to overload before it does type convers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e descriptive method names, avoid overload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onstructors: Outlin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1246320" y="1870200"/>
            <a:ext cx="7440480" cy="425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Defining Constructor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alling Methods from Constructor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alling a Constructor from Other Constructor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Overloading and Return Typ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You must not overload a method where the only difference is the type of value returned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0" name="Picture 4" descr=""/>
          <p:cNvPicPr/>
          <p:nvPr/>
        </p:nvPicPr>
        <p:blipFill>
          <a:blip r:embed="rId1"/>
          <a:stretch/>
        </p:blipFill>
        <p:spPr>
          <a:xfrm>
            <a:off x="2187720" y="3389400"/>
            <a:ext cx="4124160" cy="20858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  <p:sp>
        <p:nvSpPr>
          <p:cNvPr id="191" name="&quot;No&quot; Symbol 4"/>
          <p:cNvSpPr/>
          <p:nvPr/>
        </p:nvSpPr>
        <p:spPr>
          <a:xfrm>
            <a:off x="3335400" y="3441600"/>
            <a:ext cx="2008080" cy="2008440"/>
          </a:xfrm>
          <a:custGeom>
            <a:avLst/>
            <a:gdLst/>
            <a:ahLst/>
            <a:rect l="l" t="t" r="r" b="b"/>
            <a:pathLst>
              <a:path w="2008187" h="2008188">
                <a:moveTo>
                  <a:pt x="0" y="1004094"/>
                </a:moveTo>
                <a:cubicBezTo>
                  <a:pt x="0" y="449548"/>
                  <a:pt x="449548" y="0"/>
                  <a:pt x="1004094" y="0"/>
                </a:cubicBezTo>
                <a:cubicBezTo>
                  <a:pt x="1558640" y="0"/>
                  <a:pt x="2008188" y="449548"/>
                  <a:pt x="2008188" y="1004094"/>
                </a:cubicBezTo>
                <a:cubicBezTo>
                  <a:pt x="2008188" y="1558640"/>
                  <a:pt x="1558640" y="2008188"/>
                  <a:pt x="1004094" y="2008188"/>
                </a:cubicBezTo>
                <a:cubicBezTo>
                  <a:pt x="449548" y="2008188"/>
                  <a:pt x="0" y="1558640"/>
                  <a:pt x="0" y="1004094"/>
                </a:cubicBezTo>
                <a:close/>
                <a:moveTo>
                  <a:pt x="1556641" y="1301620"/>
                </a:moveTo>
                <a:cubicBezTo>
                  <a:pt x="1688030" y="1057611"/>
                  <a:pt x="1643809" y="756308"/>
                  <a:pt x="1447845" y="560344"/>
                </a:cubicBezTo>
                <a:cubicBezTo>
                  <a:pt x="1251881" y="364379"/>
                  <a:pt x="950578" y="320157"/>
                  <a:pt x="706569" y="451547"/>
                </a:cubicBezTo>
                <a:lnTo>
                  <a:pt x="1556641" y="1301620"/>
                </a:lnTo>
                <a:close/>
                <a:moveTo>
                  <a:pt x="451546" y="706568"/>
                </a:moveTo>
                <a:cubicBezTo>
                  <a:pt x="320157" y="950577"/>
                  <a:pt x="364378" y="1251880"/>
                  <a:pt x="560342" y="1447844"/>
                </a:cubicBezTo>
                <a:cubicBezTo>
                  <a:pt x="756306" y="1643809"/>
                  <a:pt x="1057609" y="1688031"/>
                  <a:pt x="1301618" y="1556641"/>
                </a:cubicBezTo>
                <a:lnTo>
                  <a:pt x="451546" y="706568"/>
                </a:lnTo>
                <a:close/>
              </a:path>
            </a:pathLst>
          </a:custGeom>
          <a:solidFill>
            <a:srgbClr val="ff0000">
              <a:alpha val="3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Programming Exampl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A class for money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View sample class, listing 6.16</a:t>
            </a:r>
            <a:br>
              <a:rPr sz="2100"/>
            </a:br>
            <a:r>
              <a:rPr b="1" lang="en-US" sz="2100" spc="-1" strike="noStrike">
                <a:solidFill>
                  <a:srgbClr val="ed7d31"/>
                </a:solidFill>
                <a:latin typeface="Courier New"/>
              </a:rPr>
              <a:t>class Money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Note use of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ivate instance variabl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ethods to set valu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ethods for doing arithmetic opera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Programming Exampl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View demo program, listing 6.17</a:t>
            </a:r>
            <a:br>
              <a:rPr sz="2100"/>
            </a:br>
            <a:r>
              <a:rPr b="1" lang="en-US" sz="2100" spc="-1" strike="noStrike">
                <a:solidFill>
                  <a:srgbClr val="ed7d31"/>
                </a:solidFill>
                <a:latin typeface="Courier New"/>
              </a:rPr>
              <a:t>class MoneyDemo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6" name="Picture 3" descr=""/>
          <p:cNvPicPr/>
          <p:nvPr/>
        </p:nvPicPr>
        <p:blipFill>
          <a:blip r:embed="rId1"/>
          <a:stretch/>
        </p:blipFill>
        <p:spPr>
          <a:xfrm>
            <a:off x="1146240" y="3030480"/>
            <a:ext cx="6867360" cy="25351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  <p:sp>
        <p:nvSpPr>
          <p:cNvPr id="197" name="Text Box 7"/>
          <p:cNvSpPr/>
          <p:nvPr/>
        </p:nvSpPr>
        <p:spPr>
          <a:xfrm>
            <a:off x="6969240" y="4821120"/>
            <a:ext cx="1523880" cy="1008720"/>
          </a:xfrm>
          <a:prstGeom prst="rect">
            <a:avLst/>
          </a:prstGeom>
          <a:solidFill>
            <a:srgbClr val="5b9bd5"/>
          </a:solidFill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mpl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reen out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Information Hiding Revisited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ivacy Leak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stance variable of a class type contain address where that object is stor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ssignment of class variables results in two variables pointing to same obje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e of method to change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ithe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variable, changes the actual object itsel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iew insecure class, listing 6.18</a:t>
            </a:r>
            <a:br>
              <a:rPr sz="2800"/>
            </a:b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class petPai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Information Hiding Revisited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20840" y="1511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View sample 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program, 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listing 6.19</a:t>
            </a:r>
            <a:br>
              <a:rPr sz="2100"/>
            </a:b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class Hack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2" name="Picture 3" descr=""/>
          <p:cNvPicPr/>
          <p:nvPr/>
        </p:nvPicPr>
        <p:blipFill>
          <a:blip r:embed="rId1"/>
          <a:stretch/>
        </p:blipFill>
        <p:spPr>
          <a:xfrm>
            <a:off x="4211640" y="1327320"/>
            <a:ext cx="3133800" cy="48798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  <p:pic>
        <p:nvPicPr>
          <p:cNvPr id="203" name="Picture 4" descr=""/>
          <p:cNvPicPr/>
          <p:nvPr/>
        </p:nvPicPr>
        <p:blipFill>
          <a:blip r:embed="rId2"/>
          <a:stretch/>
        </p:blipFill>
        <p:spPr>
          <a:xfrm>
            <a:off x="6807240" y="3873600"/>
            <a:ext cx="2057400" cy="7617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  <p:sp>
        <p:nvSpPr>
          <p:cNvPr id="204" name="Text Box 7"/>
          <p:cNvSpPr/>
          <p:nvPr/>
        </p:nvSpPr>
        <p:spPr>
          <a:xfrm>
            <a:off x="6916680" y="1916280"/>
            <a:ext cx="1523880" cy="1008720"/>
          </a:xfrm>
          <a:prstGeom prst="rect">
            <a:avLst/>
          </a:prstGeom>
          <a:solidFill>
            <a:srgbClr val="5b9bd5"/>
          </a:solidFill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mpl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reen out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Enumeration as a Clas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onsider defining an enumeration for 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uits of cards</a:t>
            </a:r>
            <a:br>
              <a:rPr sz="2100"/>
            </a:br>
            <a:r>
              <a:rPr b="1" lang="en-US" sz="2400" spc="-1" strike="noStrike">
                <a:solidFill>
                  <a:srgbClr val="ed7d31"/>
                </a:solidFill>
                <a:latin typeface="Courier New"/>
              </a:rPr>
              <a:t>enum Suit {CLUBS, DIAMONDS, HEARTS, SPADES}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ompiler creates a class with method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ed7d31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ed7d31"/>
                </a:solidFill>
                <a:latin typeface="Courier New"/>
              </a:rPr>
              <a:t>equa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ed7d31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ed7d31"/>
                </a:solidFill>
                <a:latin typeface="Courier New"/>
              </a:rPr>
              <a:t>compareT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ed7d31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ed7d31"/>
                </a:solidFill>
                <a:latin typeface="Courier New"/>
              </a:rPr>
              <a:t>ordin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ed7d31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ed7d31"/>
                </a:solidFill>
                <a:latin typeface="Courier New"/>
              </a:rPr>
              <a:t>toStr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ed7d31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ed7d31"/>
                </a:solidFill>
                <a:latin typeface="Courier New"/>
              </a:rPr>
              <a:t>valueO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Enumeration as a Clas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877680" y="2079720"/>
            <a:ext cx="8049960" cy="404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View enhanced enumeration, listing 6.20</a:t>
            </a:r>
            <a:br>
              <a:rPr sz="2100"/>
            </a:br>
            <a:r>
              <a:rPr b="1" lang="en-US" sz="2100" spc="-1" strike="noStrike">
                <a:solidFill>
                  <a:srgbClr val="ed7d31"/>
                </a:solidFill>
                <a:latin typeface="Courier New"/>
              </a:rPr>
              <a:t>enum Sui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Note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stance variabl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dditional method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struct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Packages: Outlin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1599840" y="1787400"/>
            <a:ext cx="7086600" cy="433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Packages and Importing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Package Names and Directorie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Name Clashe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Packages and Importing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package is a collection of classes grouped together into a fold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me of folder is name of pack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ach cla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laced in a separate fi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as this line at the beginning of the fil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ackage </a:t>
            </a: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Package_Name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asses use packages by use of </a:t>
            </a:r>
            <a:r>
              <a:rPr b="1" lang="en-US" sz="2100" spc="-1" strike="noStrike">
                <a:solidFill>
                  <a:srgbClr val="ed7d31"/>
                </a:solidFill>
                <a:latin typeface="Courier New"/>
              </a:rPr>
              <a:t>impor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stat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Package Names and Directorie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Package name tells compiler path name for directory containing classes of packag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arch for package begins in class path base directory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ckage name uses dots in place of / or \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Name of package uses relative path name starting from any directory in class path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Defining Constructor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98240" y="147492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A special method called when instance of an object created with new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reate objec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itialize values of instance variabl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an have parameter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o specify initial values if desir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May have multiple definition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ach with different numbers or types of paramete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14400" y="345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Package Names and Directorie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gure 6.5 A package nam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6" descr=""/>
          <p:cNvPicPr/>
          <p:nvPr/>
        </p:nvPicPr>
        <p:blipFill>
          <a:blip r:embed="rId1"/>
          <a:stretch/>
        </p:blipFill>
        <p:spPr>
          <a:xfrm>
            <a:off x="2048040" y="2378160"/>
            <a:ext cx="5241600" cy="37749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Name Clashe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Packages help in dealing with name clashe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en two classes have same na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Different programmers may give same name to two classe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mbiguity resolved by using the package na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Graphics Supplement: Outlin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dding Butt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vent-Driven Programm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gramming Butt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gramming Example:  A Complete Applet with Butt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dding Ic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anging Visibil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gramming Example: An Example of Changing Visibil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Adding Button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reate object of type </a:t>
            </a:r>
            <a:r>
              <a:rPr b="1" lang="en-US" sz="2100" spc="-1" strike="noStrike">
                <a:solidFill>
                  <a:srgbClr val="ed7d31"/>
                </a:solidFill>
                <a:latin typeface="Courier New"/>
              </a:rPr>
              <a:t>Jbutton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n add to content pan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Possible to associate an action with a button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View applet example, listing 6.21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ass </a:t>
            </a:r>
            <a:r>
              <a:rPr b="1" lang="en-US" sz="2100" spc="-1" strike="noStrike">
                <a:solidFill>
                  <a:srgbClr val="ed7d31"/>
                </a:solidFill>
                <a:latin typeface="Courier New"/>
              </a:rPr>
              <a:t>PreliminaryButtonDemo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ed7d31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Adding Button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Applet Outpu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26" name="Group 6"/>
          <p:cNvGrpSpPr/>
          <p:nvPr/>
        </p:nvGrpSpPr>
        <p:grpSpPr>
          <a:xfrm>
            <a:off x="1862280" y="2770200"/>
            <a:ext cx="5964120" cy="2419200"/>
            <a:chOff x="1862280" y="2770200"/>
            <a:chExt cx="5964120" cy="2419200"/>
          </a:xfrm>
        </p:grpSpPr>
        <p:pic>
          <p:nvPicPr>
            <p:cNvPr id="227" name="Picture 2" descr=""/>
            <p:cNvPicPr/>
            <p:nvPr/>
          </p:nvPicPr>
          <p:blipFill>
            <a:blip r:embed="rId1"/>
            <a:srcRect l="0" t="0" r="0" b="51098"/>
            <a:stretch/>
          </p:blipFill>
          <p:spPr>
            <a:xfrm>
              <a:off x="1862280" y="2770200"/>
              <a:ext cx="5962680" cy="1812960"/>
            </a:xfrm>
            <a:prstGeom prst="rect">
              <a:avLst/>
            </a:prstGeom>
            <a:ln w="0">
              <a:noFill/>
            </a:ln>
            <a:effectLst>
              <a:outerShdw dist="107932" dir="2700000" blurRad="0" rotWithShape="0">
                <a:srgbClr val="e7e6e6">
                  <a:alpha val="50000"/>
                </a:srgbClr>
              </a:outerShdw>
            </a:effectLst>
          </p:spPr>
        </p:pic>
        <p:pic>
          <p:nvPicPr>
            <p:cNvPr id="228" name="Picture 2" descr=""/>
            <p:cNvPicPr/>
            <p:nvPr/>
          </p:nvPicPr>
          <p:blipFill>
            <a:blip r:embed="rId2"/>
            <a:srcRect l="0" t="83599" r="0" b="0"/>
            <a:stretch/>
          </p:blipFill>
          <p:spPr>
            <a:xfrm>
              <a:off x="1863720" y="4581360"/>
              <a:ext cx="5962680" cy="608040"/>
            </a:xfrm>
            <a:prstGeom prst="rect">
              <a:avLst/>
            </a:prstGeom>
            <a:ln w="0">
              <a:noFill/>
            </a:ln>
            <a:effectLst>
              <a:outerShdw dist="107932" dir="2700000" blurRad="0" rotWithShape="0">
                <a:srgbClr val="e7e6e6">
                  <a:alpha val="50000"/>
                </a:srgbClr>
              </a:outerShdw>
            </a:effectLst>
          </p:spPr>
        </p:pic>
      </p:grpSp>
      <p:sp>
        <p:nvSpPr>
          <p:cNvPr id="229" name="Text Box 7"/>
          <p:cNvSpPr/>
          <p:nvPr/>
        </p:nvSpPr>
        <p:spPr>
          <a:xfrm>
            <a:off x="3354480" y="4626000"/>
            <a:ext cx="3395520" cy="1008720"/>
          </a:xfrm>
          <a:prstGeom prst="rect">
            <a:avLst/>
          </a:prstGeom>
          <a:solidFill>
            <a:srgbClr val="5b9bd5"/>
          </a:solidFill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the user clicks either of these buttons, nothing happe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Event-Driven Programming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Applets use events and event handler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An </a:t>
            </a:r>
            <a:r>
              <a:rPr b="0" i="1" lang="en-US" sz="2100" spc="-1" strike="noStrike">
                <a:solidFill>
                  <a:srgbClr val="000000"/>
                </a:solidFill>
                <a:latin typeface="Calibri"/>
              </a:rPr>
              <a:t>even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n object that represents some user action which elicits a respon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ample: clicking on button with mou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alibri"/>
              </a:rPr>
              <a:t>Listener objects 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are specified to receive the event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istener objects have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event handl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ethod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10"/>
          <p:cNvSpPr/>
          <p:nvPr/>
        </p:nvSpPr>
        <p:spPr>
          <a:xfrm>
            <a:off x="1365120" y="2846520"/>
            <a:ext cx="6670800" cy="13525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Event-Driven Programming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gure 6.6  Event firing and an event listener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Text Box 7"/>
          <p:cNvSpPr/>
          <p:nvPr/>
        </p:nvSpPr>
        <p:spPr>
          <a:xfrm>
            <a:off x="1266840" y="4826160"/>
            <a:ext cx="3395520" cy="1313640"/>
          </a:xfrm>
          <a:prstGeom prst="rect">
            <a:avLst/>
          </a:prstGeom>
          <a:solidFill>
            <a:srgbClr val="5b9bd5"/>
          </a:solidFill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event object is the result of a button click. The event object goes from the button to the listen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7"/>
          <p:cNvSpPr/>
          <p:nvPr/>
        </p:nvSpPr>
        <p:spPr>
          <a:xfrm>
            <a:off x="5148360" y="4859280"/>
            <a:ext cx="3682800" cy="1313640"/>
          </a:xfrm>
          <a:prstGeom prst="rect">
            <a:avLst/>
          </a:prstGeom>
          <a:solidFill>
            <a:srgbClr val="5b9bd5"/>
          </a:solidFill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listener object performs some action, such as making text visible in the applet, when it receives the event objec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7" name="Straight Arrow Connector 7"/>
          <p:cNvCxnSpPr/>
          <p:nvPr/>
        </p:nvCxnSpPr>
        <p:spPr>
          <a:xfrm flipV="1">
            <a:off x="3756600" y="4053960"/>
            <a:ext cx="516600" cy="796320"/>
          </a:xfrm>
          <a:prstGeom prst="straightConnector1">
            <a:avLst/>
          </a:prstGeom>
          <a:ln w="648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38" name="Straight Arrow Connector 9"/>
          <p:cNvCxnSpPr/>
          <p:nvPr/>
        </p:nvCxnSpPr>
        <p:spPr>
          <a:xfrm flipH="1" flipV="1">
            <a:off x="7016040" y="4035240"/>
            <a:ext cx="656280" cy="815040"/>
          </a:xfrm>
          <a:prstGeom prst="straightConnector1">
            <a:avLst/>
          </a:prstGeom>
          <a:ln w="6480">
            <a:solidFill>
              <a:srgbClr val="ff0000"/>
            </a:solidFill>
            <a:miter/>
            <a:tailEnd len="med" type="arrow" w="med"/>
          </a:ln>
        </p:spPr>
      </p:cxnSp>
      <p:pic>
        <p:nvPicPr>
          <p:cNvPr id="239" name="Picture 10" descr=""/>
          <p:cNvPicPr/>
          <p:nvPr/>
        </p:nvPicPr>
        <p:blipFill>
          <a:blip r:embed="rId1"/>
          <a:stretch/>
        </p:blipFill>
        <p:spPr>
          <a:xfrm>
            <a:off x="1681200" y="3103560"/>
            <a:ext cx="6068880" cy="84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Programming Button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When an event is "sent" to the listener object …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method of the listener object is invok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event object is given to the listener object method as the argu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r each button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pecify the listener object (register the listener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ethods to be invoked must be defin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Programming Button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gure 6.7  Buttons and an action listener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4" name="Picture 5" descr=""/>
          <p:cNvPicPr/>
          <p:nvPr/>
        </p:nvPicPr>
        <p:blipFill>
          <a:blip r:embed="rId1"/>
          <a:stretch/>
        </p:blipFill>
        <p:spPr>
          <a:xfrm>
            <a:off x="861840" y="2405160"/>
            <a:ext cx="7780680" cy="33004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Programming Button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ttons fire events as objects of class </a:t>
            </a:r>
            <a:r>
              <a:rPr b="1" lang="en-US" sz="2100" spc="-1" strike="noStrike">
                <a:solidFill>
                  <a:srgbClr val="ed7d31"/>
                </a:solidFill>
                <a:latin typeface="Courier New"/>
              </a:rPr>
              <a:t>ActionEven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vent objects handled by action listen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make a class an action listen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dd phrase </a:t>
            </a: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implements ActionListener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 heading of class defini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gister the action listener by invoking </a:t>
            </a: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addActionListen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dd definition named </a:t>
            </a: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actionPerform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to cla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Defining Constructor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Example class to represent pet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gure 6.1  Class Diagram for Class </a:t>
            </a:r>
            <a:r>
              <a:rPr b="1" lang="en-US" sz="3600" spc="-1" strike="noStrike">
                <a:solidFill>
                  <a:srgbClr val="ed7d31"/>
                </a:solidFill>
                <a:latin typeface="Courier New"/>
              </a:rPr>
              <a:t>Pe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5" descr=""/>
          <p:cNvPicPr/>
          <p:nvPr/>
        </p:nvPicPr>
        <p:blipFill>
          <a:blip r:embed="rId1"/>
          <a:stretch/>
        </p:blipFill>
        <p:spPr>
          <a:xfrm>
            <a:off x="1822320" y="2870280"/>
            <a:ext cx="5531040" cy="338616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89095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Programming Button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o be an action listener, a class must hav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method named </a:t>
            </a: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actionPerform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method has a parameter of type </a:t>
            </a: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ActionEv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s is the only method required by the </a:t>
            </a: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ActionListener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yntax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9" name="Picture 2" descr=""/>
          <p:cNvPicPr/>
          <p:nvPr/>
        </p:nvPicPr>
        <p:blipFill>
          <a:blip r:embed="rId1"/>
          <a:stretch/>
        </p:blipFill>
        <p:spPr>
          <a:xfrm>
            <a:off x="2679840" y="4870440"/>
            <a:ext cx="5203800" cy="10526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Programming Exampl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A Complete Applet with Button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View applet code, listing 6.22</a:t>
            </a:r>
            <a:br>
              <a:rPr sz="2100"/>
            </a:br>
            <a:r>
              <a:rPr b="1" lang="en-US" sz="3600" spc="-1" strike="noStrike">
                <a:solidFill>
                  <a:srgbClr val="ed7d31"/>
                </a:solidFill>
                <a:latin typeface="Courier New"/>
              </a:rPr>
              <a:t>class ButtonDem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Note feature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pecification implements </a:t>
            </a: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ActionListen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vocation of </a:t>
            </a: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addActionListen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ethod </a:t>
            </a: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actionPerform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Programming Exampl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Initial applet outpu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4" name="Picture 2" descr=""/>
          <p:cNvPicPr/>
          <p:nvPr/>
        </p:nvPicPr>
        <p:blipFill>
          <a:blip r:embed="rId1"/>
          <a:stretch/>
        </p:blipFill>
        <p:spPr>
          <a:xfrm>
            <a:off x="2190600" y="2462040"/>
            <a:ext cx="4762800" cy="30862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Programming Exampl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Applet output after clicking Sunny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7" name="Picture 2" descr=""/>
          <p:cNvPicPr/>
          <p:nvPr/>
        </p:nvPicPr>
        <p:blipFill>
          <a:blip r:embed="rId1"/>
          <a:stretch/>
        </p:blipFill>
        <p:spPr>
          <a:xfrm>
            <a:off x="2151000" y="2505240"/>
            <a:ext cx="4911840" cy="31827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Programming Exampl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Applet output after clicking Cloudy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0" name="Picture 2" descr=""/>
          <p:cNvPicPr/>
          <p:nvPr/>
        </p:nvPicPr>
        <p:blipFill>
          <a:blip r:embed="rId1"/>
          <a:stretch/>
        </p:blipFill>
        <p:spPr>
          <a:xfrm>
            <a:off x="2170080" y="2422440"/>
            <a:ext cx="4762440" cy="30862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Adding Icon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An icon is a pictur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ually small (but not necessarily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ften a .GIF or .JPEG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icture file stored in same folder as progra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Icon can be added to a label, button, or other componen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ass </a:t>
            </a:r>
            <a:r>
              <a:rPr b="1" lang="en-US" sz="2100" spc="-1" strike="noStrike">
                <a:solidFill>
                  <a:srgbClr val="ed7d31"/>
                </a:solidFill>
                <a:latin typeface="Courier New"/>
              </a:rPr>
              <a:t>ImageIcon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used to convert digital image to icon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Adding Icon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View sample applet, listing 6.23</a:t>
            </a:r>
            <a:br>
              <a:rPr sz="2100"/>
            </a:br>
            <a:r>
              <a:rPr b="1" lang="en-US" sz="3600" spc="-1" strike="noStrike">
                <a:solidFill>
                  <a:srgbClr val="ed7d31"/>
                </a:solidFill>
                <a:latin typeface="Courier New"/>
              </a:rPr>
              <a:t>class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600" spc="-1" strike="noStrike">
                <a:solidFill>
                  <a:srgbClr val="ed7d31"/>
                </a:solidFill>
                <a:latin typeface="Courier New"/>
              </a:rPr>
              <a:t>IconDem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Not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reation of ic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ttachin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 to lab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5" name="Picture 2" descr=""/>
          <p:cNvPicPr/>
          <p:nvPr/>
        </p:nvPicPr>
        <p:blipFill>
          <a:blip r:embed="rId1"/>
          <a:stretch/>
        </p:blipFill>
        <p:spPr>
          <a:xfrm>
            <a:off x="4421160" y="2927520"/>
            <a:ext cx="4000680" cy="27525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  <p:sp>
        <p:nvSpPr>
          <p:cNvPr id="266" name="Text Box 7"/>
          <p:cNvSpPr/>
          <p:nvPr/>
        </p:nvSpPr>
        <p:spPr>
          <a:xfrm>
            <a:off x="7234200" y="5076720"/>
            <a:ext cx="1523880" cy="1008720"/>
          </a:xfrm>
          <a:prstGeom prst="rect">
            <a:avLst/>
          </a:prstGeom>
          <a:solidFill>
            <a:srgbClr val="5b9bd5"/>
          </a:solidFill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mpl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reen out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Adding Icon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gure 6.8  A button containing an icon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9" name="Picture 2" descr=""/>
          <p:cNvPicPr/>
          <p:nvPr/>
        </p:nvPicPr>
        <p:blipFill>
          <a:blip r:embed="rId1"/>
          <a:stretch/>
        </p:blipFill>
        <p:spPr>
          <a:xfrm>
            <a:off x="2652840" y="2475000"/>
            <a:ext cx="4952880" cy="31813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hanging Visibility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omponents have a method named </a:t>
            </a:r>
            <a:r>
              <a:rPr b="1" lang="en-US" sz="2100" spc="-1" strike="noStrike">
                <a:solidFill>
                  <a:srgbClr val="ed7d31"/>
                </a:solidFill>
                <a:latin typeface="Courier New"/>
              </a:rPr>
              <a:t>setVisibl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hanges component from visible to invisible (or the other way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An invisible component is considered not ther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us an invisible button would be inoperab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Programming Exampl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An Example of Changing Visibility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View sample applet, listing 6.24</a:t>
            </a:r>
            <a:br>
              <a:rPr sz="2100"/>
            </a:br>
            <a:r>
              <a:rPr b="1" lang="en-US" sz="2100" spc="-1" strike="noStrike">
                <a:solidFill>
                  <a:srgbClr val="ed7d31"/>
                </a:solidFill>
                <a:latin typeface="Courier New"/>
              </a:rPr>
              <a:t>class VisibliityDemo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ed7d31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4" name="Picture 4" descr=""/>
          <p:cNvPicPr/>
          <p:nvPr/>
        </p:nvPicPr>
        <p:blipFill>
          <a:blip r:embed="rId1"/>
          <a:stretch/>
        </p:blipFill>
        <p:spPr>
          <a:xfrm>
            <a:off x="558720" y="3575160"/>
            <a:ext cx="3834000" cy="248580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5" descr=""/>
          <p:cNvPicPr/>
          <p:nvPr/>
        </p:nvPicPr>
        <p:blipFill>
          <a:blip r:embed="rId2"/>
          <a:stretch/>
        </p:blipFill>
        <p:spPr>
          <a:xfrm>
            <a:off x="4932360" y="3570120"/>
            <a:ext cx="3873600" cy="251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Defining Constructor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463400"/>
            <a:ext cx="8229600" cy="46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Note </a:t>
            </a:r>
            <a:r>
              <a:rPr b="0" lang="en-US" sz="21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sample code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, listing 6.1</a:t>
            </a:r>
            <a:br>
              <a:rPr sz="2100"/>
            </a:br>
            <a:r>
              <a:rPr b="1" lang="en-US" sz="2100" spc="-1" strike="noStrike">
                <a:solidFill>
                  <a:srgbClr val="ed7d31"/>
                </a:solidFill>
                <a:latin typeface="Courier New"/>
              </a:rPr>
              <a:t>class Pe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Note different constructor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efaul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ith 3 paramete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ith String paramet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ith double paramet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Note </a:t>
            </a:r>
            <a:r>
              <a:rPr b="0" lang="en-US" sz="21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sample program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, listing 6.2</a:t>
            </a:r>
            <a:br>
              <a:rPr sz="2100"/>
            </a:br>
            <a:r>
              <a:rPr b="1" lang="en-US" sz="2100" spc="-1" strike="noStrike">
                <a:solidFill>
                  <a:srgbClr val="ed7d31"/>
                </a:solidFill>
                <a:latin typeface="Courier New"/>
              </a:rPr>
              <a:t>class PetDemo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Summary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onstructor method creates, initializes object of a clas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Default constructor has no parameter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Within a constructor use this as name for another constructor in same clas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en-US" sz="2100" spc="-1" strike="noStrike">
                <a:solidFill>
                  <a:srgbClr val="ed7d31"/>
                </a:solidFill>
                <a:latin typeface="Courier New"/>
              </a:rPr>
              <a:t>static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variable shared by all objects of the clas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Summary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Primitive type has wrapper class to allow treatment as an objec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Java performs automatic type cast between primitive type and object of wrapper class as needed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Divide method tasks into subtask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est all methods individually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Summary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Methods with same name, different signatures are overloaded method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An enumeration is a class – can have instance variables, constructors, method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A package of class definitions grouped together in same folder, contain a </a:t>
            </a:r>
            <a:r>
              <a:rPr b="1" lang="en-US" sz="2100" spc="-1" strike="noStrike">
                <a:solidFill>
                  <a:srgbClr val="ed7d31"/>
                </a:solidFill>
                <a:latin typeface="Courier New"/>
              </a:rPr>
              <a:t>package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statement at beginning of each clas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Defining Constructor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02" name="Picture 2" descr=""/>
          <p:cNvPicPr/>
          <p:nvPr/>
        </p:nvPicPr>
        <p:blipFill>
          <a:blip r:embed="rId1"/>
          <a:stretch/>
        </p:blipFill>
        <p:spPr>
          <a:xfrm>
            <a:off x="1581120" y="1706400"/>
            <a:ext cx="6265800" cy="4054680"/>
          </a:xfrm>
          <a:prstGeom prst="rect">
            <a:avLst/>
          </a:prstGeom>
          <a:ln w="0">
            <a:noFill/>
          </a:ln>
          <a:effectLst>
            <a:outerShdw dist="89095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103" name="Text Box 7"/>
          <p:cNvSpPr/>
          <p:nvPr/>
        </p:nvSpPr>
        <p:spPr>
          <a:xfrm>
            <a:off x="6689880" y="3622680"/>
            <a:ext cx="1523880" cy="1008720"/>
          </a:xfrm>
          <a:prstGeom prst="rect">
            <a:avLst/>
          </a:prstGeom>
          <a:solidFill>
            <a:srgbClr val="5b9bd5"/>
          </a:solidFill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mpl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reen out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Defining Constructor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onstructor without parameters is the default constructor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Java will define this automatically if the class designer does not define any constructo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f you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do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define a constructor, Java will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not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automatically define a default construct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Usually default constructors not included in class diagram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2T16:21:33Z</dcterms:created>
  <dc:creator>SteveArmstrong</dc:creator>
  <dc:description/>
  <dc:language>en-US</dc:language>
  <cp:lastModifiedBy>Kenrick Mock</cp:lastModifiedBy>
  <dcterms:modified xsi:type="dcterms:W3CDTF">2014-04-06T10:54:46Z</dcterms:modified>
  <cp:revision>104</cp:revision>
  <dc:subject/>
  <dc:title>More About Objects and Methods</dc:title>
</cp:coreProperties>
</file>